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CF0-94D6-4E70-9E10-97E190D8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86D-E909-42FA-9A54-3C35A07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E5B-1BDA-47B6-854A-C42BEF45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343-797D-4507-AAC7-67E887AC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719-0B57-4F98-8589-5F2782FA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A3A-D3FA-4C77-BCAE-C1C07E5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BF2-BFB9-4BE2-8B2D-25E9F244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097-4701-4E94-A189-01C8E79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5FB-8F79-47DC-9DA7-FE079CF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E46-0268-4D49-BAC9-20472A9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08E-1A98-4D1D-A373-4312DA6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3A7-CBC8-460D-8319-81A6A32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0F15-0D3F-40DA-AFB6-02BC5AA4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7520" y="1267920"/>
            <a:ext cx="80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wis721 Ex BT"/>
              </a:rPr>
              <a:t>Kleene Algebra with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0640" y="3012840"/>
            <a:ext cx="787104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f1ff"/>
                </a:solidFill>
                <a:latin typeface="Swis721 Ex BT"/>
              </a:rPr>
              <a:t>Dexter K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f1ff"/>
                </a:solidFill>
                <a:latin typeface="Swis721 Ex BT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Workshop on Logic &amp;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Nelson, NZ, Januar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1240" y="2647800"/>
            <a:ext cx="769788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880" y="4514760"/>
            <a:ext cx="769788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3160" y="2617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This is a universal Horn axioma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5760" y="1325520"/>
            <a:ext cx="65246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*q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= leas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such tha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 + px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q + p(p*q)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p*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q + px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x 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p*q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p*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= leas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such tha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 + xp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q + p(qp*)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q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q + px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x 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qp*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Every system of linear ine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+ ... + a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+ b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+ ... + a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n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+ b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has a unique least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88840" y="67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Alternative Characterizations of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88840" y="1747800"/>
            <a:ext cx="7661160" cy="4436280"/>
            <a:chOff x="888840" y="1747800"/>
            <a:chExt cx="7661160" cy="4436280"/>
          </a:xfrm>
        </p:grpSpPr>
        <p:sp>
          <p:nvSpPr>
            <p:cNvPr id="121" name=""/>
            <p:cNvSpPr/>
            <p:nvPr/>
          </p:nvSpPr>
          <p:spPr>
            <a:xfrm>
              <a:off x="888840" y="1747800"/>
              <a:ext cx="7661160" cy="44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ff1ff"/>
                  </a:solidFill>
                  <a:latin typeface="Swis721 Ex BT"/>
                </a:rPr>
                <a:t>Complete semirings (quantal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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i </a:t>
              </a:r>
              <a:r>
                <a:rPr b="1" lang="en-US" sz="2400" spc="-1" strike="noStrike" baseline="-25000">
                  <a:solidFill>
                    <a:srgbClr val="40ff4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 I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p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i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 = supremum of {p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i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| i </a:t>
              </a:r>
              <a:r>
                <a:rPr b="1" lang="en-US" sz="24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I}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              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with respect to </a:t>
              </a:r>
              <a:r>
                <a:rPr b="1" lang="en-US" sz="24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ff1ff"/>
                  </a:solidFill>
                  <a:latin typeface="Swis721 Ex BT"/>
                </a:rPr>
                <a:t>*-continu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pq*r  =  sup pq</a:t>
              </a:r>
              <a:r>
                <a:rPr b="0" lang="en-US" sz="2400" spc="-1" strike="noStrike" baseline="30000">
                  <a:solidFill>
                    <a:srgbClr val="40ff40"/>
                  </a:solidFill>
                  <a:latin typeface="Swis721 Ex BT"/>
                </a:rPr>
                <a:t>n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Swis721 Ex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wis721 Ex BT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Swis721 Ex BT"/>
                </a:rPr>
                <a:t>infinit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3300"/>
                </a:buClr>
                <a:buFont typeface="Swis721 Ex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wis721 Ex BT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Swis721 Ex BT"/>
                </a:rPr>
                <a:t>same equational theory  Eq(KA) = Eq(KA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5080" y="4481280"/>
              <a:ext cx="6897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ff40"/>
                  </a:solidFill>
                  <a:latin typeface="Swis721 Ex BT"/>
                </a:rPr>
                <a:t>n </a:t>
              </a:r>
              <a:r>
                <a:rPr b="1" lang="en-US" sz="16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40ff40"/>
                  </a:solidFill>
                  <a:latin typeface="Swis721 Ex BT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69840" y="2244600"/>
            <a:ext cx="7075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1 + pp*  =  1 + p*p  =  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p*p*  =  p**  =  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(pq)*p  =  p(qp)*       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sl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(p*q)*p*  =  (p + q)*</a:t>
            </a: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den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px = xq 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 p*x = xq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bi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qp = 0 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 (p + q)* = p*q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loop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qp = pq  </a:t>
            </a:r>
            <a:r>
              <a:rPr b="0" lang="en-US" sz="18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6ff1ff"/>
                </a:solidFill>
                <a:latin typeface="Swis721 Ex BT"/>
              </a:rPr>
              <a:t>  (p + q)* = (pq)*(p* + q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70080" y="922320"/>
            <a:ext cx="467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ome Usefu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1320" y="693720"/>
            <a:ext cx="7851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Proof of the Slid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1ff"/>
                </a:solidFill>
                <a:latin typeface="Swis721 Ex BT"/>
              </a:rPr>
              <a:t>(ab)*a </a:t>
            </a:r>
            <a:r>
              <a:rPr b="0" lang="en-US" sz="28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0" lang="en-US" sz="2800" spc="-1" strike="noStrike">
                <a:solidFill>
                  <a:srgbClr val="6ff1ff"/>
                </a:solidFill>
                <a:latin typeface="Swis721 Ex BT"/>
              </a:rPr>
              <a:t> a(ba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a + aba(ba)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=  a(1 + ba(ba)*)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distribu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=  a(ba)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1 + pp* = p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a + aba(ba)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1" lang="en-US" sz="2000" spc="-1" strike="noStrike">
                <a:solidFill>
                  <a:srgbClr val="66cc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a(ba)*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(ab)*a 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66cc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a(ba)*</a:t>
            </a:r>
            <a:r>
              <a:rPr b="0" lang="en-US" sz="2000" spc="-1" strike="noStrike">
                <a:solidFill>
                  <a:srgbClr val="ff6699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 + px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 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 p*q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The reverse inequality  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 is symmet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9440" y="342720"/>
            <a:ext cx="731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Completeness and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040" y="1432080"/>
            <a:ext cx="7937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Deductively complete for the equational theory of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regular sets of strings and relational model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K 9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Complexity: Equational theory is PSPACE-complet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Meyer+Stockmeyer 7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Hoare theory (Horn theory with premises p = 0) is PSPACE-complet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Cohen 9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Horn theory is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50000">
                <a:solidFill>
                  <a:srgbClr val="00ff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-complete for star-continuous &amp; relational model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Hardin+K 0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558972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ffff"/>
                </a:solidFill>
                <a:latin typeface="Swis721 Ex B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87160"/>
            <a:ext cx="65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atrices over a 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5600" y="1974960"/>
            <a:ext cx="10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77840" y="206064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3520" y="1992240"/>
            <a:ext cx="17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+e  b+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+g  d+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6520" y="2089080"/>
            <a:ext cx="172548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84520" y="1976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e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g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45240" y="2166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06532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7800" y="220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1360" y="21384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6240" y="3059280"/>
            <a:ext cx="10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8360" y="304632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e+bg  af+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e+dg  cf+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3143160"/>
            <a:ext cx="2476440" cy="685800"/>
          </a:xfrm>
          <a:prstGeom prst="bracketPair">
            <a:avLst>
              <a:gd name="adj" fmla="val 12962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0840" y="3059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e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g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6480" y="3228840"/>
            <a:ext cx="2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77840" y="314316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2440" y="314964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70720" y="3297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24280" y="322884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9600" y="4130640"/>
            <a:ext cx="90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67040" y="4141800"/>
            <a:ext cx="10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94040" y="432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91400" y="433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3960" y="420048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3800" y="418608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9440" y="432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83360" y="425592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38920" y="431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2480" y="42498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66760" y="5213520"/>
            <a:ext cx="10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5238720"/>
            <a:ext cx="50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(a+bd*c)*       (a+bd*c)*bd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(d+ca*b)*ca*       (d+ca*b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57560" y="5322960"/>
            <a:ext cx="47433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75320" y="5226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520" y="5303880"/>
            <a:ext cx="9255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2000" y="5465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5560" y="539748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3640" y="587160"/>
            <a:ext cx="65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atrices over a 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0680" y="2181240"/>
            <a:ext cx="10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11400" y="2206800"/>
            <a:ext cx="50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(a+bd*c)*       (a+bd*c)*bd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(d+ca*b)*ca*       (d+ca*b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68560" y="2290680"/>
            <a:ext cx="471636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1240" y="21448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3800" y="2271600"/>
            <a:ext cx="80928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3000" y="2433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6560" y="23652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ff40"/>
                </a:solidFill>
                <a:latin typeface="Swis721 Ex BT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70320" y="440856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81560" y="440856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7"/>
            <a:endCxn id="174" idx="1"/>
          </p:cNvCxnSpPr>
          <p:nvPr/>
        </p:nvCxnSpPr>
        <p:spPr>
          <a:xfrm flipH="1" rot="16200000">
            <a:off x="4369680" y="3497760"/>
            <a:ext cx="2160" cy="1848240"/>
          </a:xfrm>
          <a:prstGeom prst="curvedConnector5">
            <a:avLst>
              <a:gd name="adj1" fmla="val -15200000"/>
              <a:gd name="adj2" fmla="val 49990"/>
              <a:gd name="adj3" fmla="val -1520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4" idx="3"/>
            <a:endCxn id="173" idx="5"/>
          </p:cNvCxnSpPr>
          <p:nvPr/>
        </p:nvCxnSpPr>
        <p:spPr>
          <a:xfrm rot="5400000">
            <a:off x="4368960" y="3561480"/>
            <a:ext cx="2520" cy="1848240"/>
          </a:xfrm>
          <a:prstGeom prst="curvedConnector5">
            <a:avLst>
              <a:gd name="adj1" fmla="val 15200000"/>
              <a:gd name="adj2" fmla="val 49990"/>
              <a:gd name="adj3" fmla="val 1520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3"/>
            <a:endCxn id="173" idx="1"/>
          </p:cNvCxnSpPr>
          <p:nvPr/>
        </p:nvCxnSpPr>
        <p:spPr>
          <a:xfrm flipH="1" flipV="1" rot="5400000">
            <a:off x="3350880" y="4451400"/>
            <a:ext cx="64080" cy="2520"/>
          </a:xfrm>
          <a:prstGeom prst="curvedConnector5">
            <a:avLst>
              <a:gd name="adj1" fmla="val -379661"/>
              <a:gd name="adj2" fmla="val -15600000"/>
              <a:gd name="adj3" fmla="val -379661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4" idx="7"/>
            <a:endCxn id="174" idx="5"/>
          </p:cNvCxnSpPr>
          <p:nvPr/>
        </p:nvCxnSpPr>
        <p:spPr>
          <a:xfrm flipH="1" rot="16200000">
            <a:off x="5326920" y="4451760"/>
            <a:ext cx="64080" cy="2160"/>
          </a:xfrm>
          <a:prstGeom prst="curvedConnector5">
            <a:avLst>
              <a:gd name="adj1" fmla="val -379661"/>
              <a:gd name="adj2" fmla="val 15680000"/>
              <a:gd name="adj3" fmla="val -379661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2500200" y="42004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32360" y="419904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02280" y="4629240"/>
            <a:ext cx="3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60880" y="371304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28800" y="250344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Representation of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onstruction of regular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Solution of linear equations over a 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onnectivity and shortest pat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4000" y="587520"/>
            <a:ext cx="653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atrices over a 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0120" y="61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olution of Linear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0120" y="1908000"/>
            <a:ext cx="599436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+ ... + 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+ 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+ ... + 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n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+ 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... 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                    +          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... a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79880" y="4160880"/>
            <a:ext cx="600120" cy="1254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05880" y="4040280"/>
            <a:ext cx="4291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3800" y="4160880"/>
            <a:ext cx="600120" cy="1254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4400" y="4040280"/>
            <a:ext cx="406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2960" y="4160880"/>
            <a:ext cx="600120" cy="1254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3560" y="4040280"/>
            <a:ext cx="406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x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6360" y="4160880"/>
            <a:ext cx="1614600" cy="1254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8002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hortest Paths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min,+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5840" y="2603520"/>
            <a:ext cx="285912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wis721 Ex BT"/>
              </a:rPr>
              <a:t>+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{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 + s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min 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s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r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*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3320" y="29750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9480" y="2973240"/>
            <a:ext cx="3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9400" y="36115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9240" y="4334040"/>
            <a:ext cx="168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  1.4  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  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    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   </a:t>
            </a: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    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8240" y="4348080"/>
            <a:ext cx="1378080" cy="8827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13720" y="4324320"/>
            <a:ext cx="168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  1.4  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  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    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   </a:t>
            </a:r>
            <a:r>
              <a:rPr b="0" lang="en-US" sz="1600" spc="-1" strike="noStrike">
                <a:solidFill>
                  <a:srgbClr val="6ff1ff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    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2720" y="4338720"/>
            <a:ext cx="1427040" cy="91764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91520" y="4276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2600" y="4600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32240" y="356724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43840" y="356724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5" idx="6"/>
            <a:endCxn id="206" idx="2"/>
          </p:cNvCxnSpPr>
          <p:nvPr/>
        </p:nvCxnSpPr>
        <p:spPr>
          <a:xfrm>
            <a:off x="5320800" y="3611160"/>
            <a:ext cx="1823400" cy="1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6188040" y="2927520"/>
            <a:ext cx="88920" cy="88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5" idx="7"/>
            <a:endCxn id="208" idx="3"/>
          </p:cNvCxnSpPr>
          <p:nvPr/>
        </p:nvCxnSpPr>
        <p:spPr>
          <a:xfrm flipV="1">
            <a:off x="5308560" y="3002760"/>
            <a:ext cx="892800" cy="577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5"/>
            <a:endCxn id="206" idx="1"/>
          </p:cNvCxnSpPr>
          <p:nvPr/>
        </p:nvCxnSpPr>
        <p:spPr>
          <a:xfrm>
            <a:off x="6264360" y="3003120"/>
            <a:ext cx="892800" cy="577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2040" y="390240"/>
            <a:ext cx="595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wis721 Ex BT"/>
              </a:rPr>
              <a:t>These L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50480" y="1542600"/>
            <a:ext cx="627084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6ff1ff"/>
              </a:buClr>
              <a:buFont typeface="Swis721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f1ff"/>
                </a:solidFill>
                <a:latin typeface="Swis721 Ex BT"/>
              </a:rPr>
              <a:t>Tutorial on KA and 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model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complexity, deductive 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relation to Hoare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6ff1ff"/>
              </a:buClr>
              <a:buFont typeface="Swis721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f1ff"/>
                </a:solidFill>
                <a:latin typeface="Swis721 Ex BT"/>
              </a:rPr>
              <a:t>Pract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compiler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scheme equival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static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6ff1ff"/>
              </a:buClr>
              <a:buFont typeface="Swis721 Ex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f1ff"/>
                </a:solidFill>
                <a:latin typeface="Swis721 Ex BT"/>
              </a:rPr>
              <a:t>Theoret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automata on guarded strings &amp; BD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algebraic version of Parikh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27160">
              <a:lnSpc>
                <a:spcPct val="120000"/>
              </a:lnSpc>
              <a:spcBef>
                <a:spcPts val="400"/>
              </a:spcBef>
              <a:buClr>
                <a:srgbClr val="40ff40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dynamic model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09560" y="41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Othe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9560" y="1557360"/>
            <a:ext cx="759924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Convex polyhedra 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[Iwano &amp; Steiglitz 9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B = {ax + by | x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A, y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* = convex hull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6840" y="3419640"/>
            <a:ext cx="1455480" cy="1501560"/>
          </a:xfrm>
          <a:custGeom>
            <a:avLst/>
            <a:gdLst/>
            <a:ahLst/>
            <a:rect l="l" t="t" r="r" b="b"/>
            <a:pathLst>
              <a:path w="917" h="946">
                <a:moveTo>
                  <a:pt x="901" y="400"/>
                </a:moveTo>
                <a:cubicBezTo>
                  <a:pt x="898" y="387"/>
                  <a:pt x="898" y="373"/>
                  <a:pt x="893" y="361"/>
                </a:cubicBezTo>
                <a:cubicBezTo>
                  <a:pt x="886" y="344"/>
                  <a:pt x="863" y="315"/>
                  <a:pt x="863" y="315"/>
                </a:cubicBezTo>
                <a:cubicBezTo>
                  <a:pt x="854" y="272"/>
                  <a:pt x="849" y="228"/>
                  <a:pt x="824" y="192"/>
                </a:cubicBezTo>
                <a:cubicBezTo>
                  <a:pt x="794" y="92"/>
                  <a:pt x="666" y="112"/>
                  <a:pt x="586" y="107"/>
                </a:cubicBezTo>
                <a:cubicBezTo>
                  <a:pt x="469" y="86"/>
                  <a:pt x="360" y="34"/>
                  <a:pt x="247" y="0"/>
                </a:cubicBezTo>
                <a:cubicBezTo>
                  <a:pt x="202" y="14"/>
                  <a:pt x="146" y="21"/>
                  <a:pt x="109" y="53"/>
                </a:cubicBezTo>
                <a:cubicBezTo>
                  <a:pt x="95" y="65"/>
                  <a:pt x="83" y="79"/>
                  <a:pt x="70" y="92"/>
                </a:cubicBezTo>
                <a:cubicBezTo>
                  <a:pt x="62" y="100"/>
                  <a:pt x="47" y="115"/>
                  <a:pt x="47" y="115"/>
                </a:cubicBezTo>
                <a:cubicBezTo>
                  <a:pt x="29" y="175"/>
                  <a:pt x="12" y="230"/>
                  <a:pt x="1" y="292"/>
                </a:cubicBezTo>
                <a:cubicBezTo>
                  <a:pt x="4" y="318"/>
                  <a:pt x="0" y="345"/>
                  <a:pt x="9" y="369"/>
                </a:cubicBezTo>
                <a:cubicBezTo>
                  <a:pt x="28" y="418"/>
                  <a:pt x="47" y="416"/>
                  <a:pt x="70" y="446"/>
                </a:cubicBezTo>
                <a:cubicBezTo>
                  <a:pt x="94" y="476"/>
                  <a:pt x="110" y="514"/>
                  <a:pt x="132" y="546"/>
                </a:cubicBezTo>
                <a:cubicBezTo>
                  <a:pt x="137" y="554"/>
                  <a:pt x="148" y="555"/>
                  <a:pt x="155" y="561"/>
                </a:cubicBezTo>
                <a:cubicBezTo>
                  <a:pt x="185" y="588"/>
                  <a:pt x="216" y="614"/>
                  <a:pt x="240" y="646"/>
                </a:cubicBezTo>
                <a:cubicBezTo>
                  <a:pt x="264" y="677"/>
                  <a:pt x="281" y="711"/>
                  <a:pt x="309" y="738"/>
                </a:cubicBezTo>
                <a:cubicBezTo>
                  <a:pt x="322" y="766"/>
                  <a:pt x="342" y="780"/>
                  <a:pt x="355" y="807"/>
                </a:cubicBezTo>
                <a:cubicBezTo>
                  <a:pt x="362" y="821"/>
                  <a:pt x="360" y="840"/>
                  <a:pt x="370" y="853"/>
                </a:cubicBezTo>
                <a:cubicBezTo>
                  <a:pt x="402" y="896"/>
                  <a:pt x="450" y="933"/>
                  <a:pt x="501" y="946"/>
                </a:cubicBezTo>
                <a:cubicBezTo>
                  <a:pt x="591" y="927"/>
                  <a:pt x="761" y="866"/>
                  <a:pt x="824" y="799"/>
                </a:cubicBezTo>
                <a:cubicBezTo>
                  <a:pt x="845" y="738"/>
                  <a:pt x="866" y="677"/>
                  <a:pt x="886" y="615"/>
                </a:cubicBezTo>
                <a:cubicBezTo>
                  <a:pt x="888" y="607"/>
                  <a:pt x="890" y="600"/>
                  <a:pt x="893" y="592"/>
                </a:cubicBezTo>
                <a:cubicBezTo>
                  <a:pt x="898" y="577"/>
                  <a:pt x="904" y="561"/>
                  <a:pt x="909" y="546"/>
                </a:cubicBezTo>
                <a:cubicBezTo>
                  <a:pt x="912" y="538"/>
                  <a:pt x="917" y="523"/>
                  <a:pt x="917" y="523"/>
                </a:cubicBezTo>
                <a:cubicBezTo>
                  <a:pt x="903" y="456"/>
                  <a:pt x="910" y="497"/>
                  <a:pt x="901" y="400"/>
                </a:cubicBezTo>
                <a:close/>
              </a:path>
            </a:pathLst>
          </a:custGeom>
          <a:noFill/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9240" y="3595680"/>
            <a:ext cx="1239840" cy="1141560"/>
          </a:xfrm>
          <a:custGeom>
            <a:avLst/>
            <a:gdLst/>
            <a:ahLst/>
            <a:rect l="l" t="t" r="r" b="b"/>
            <a:pathLst>
              <a:path w="781" h="719">
                <a:moveTo>
                  <a:pt x="54" y="350"/>
                </a:moveTo>
                <a:cubicBezTo>
                  <a:pt x="49" y="332"/>
                  <a:pt x="38" y="315"/>
                  <a:pt x="38" y="296"/>
                </a:cubicBezTo>
                <a:cubicBezTo>
                  <a:pt x="38" y="285"/>
                  <a:pt x="61" y="221"/>
                  <a:pt x="62" y="219"/>
                </a:cubicBezTo>
                <a:cubicBezTo>
                  <a:pt x="75" y="194"/>
                  <a:pt x="100" y="141"/>
                  <a:pt x="115" y="127"/>
                </a:cubicBezTo>
                <a:cubicBezTo>
                  <a:pt x="134" y="109"/>
                  <a:pt x="159" y="100"/>
                  <a:pt x="177" y="81"/>
                </a:cubicBezTo>
                <a:cubicBezTo>
                  <a:pt x="197" y="59"/>
                  <a:pt x="185" y="67"/>
                  <a:pt x="215" y="58"/>
                </a:cubicBezTo>
                <a:cubicBezTo>
                  <a:pt x="252" y="32"/>
                  <a:pt x="296" y="19"/>
                  <a:pt x="338" y="4"/>
                </a:cubicBezTo>
                <a:cubicBezTo>
                  <a:pt x="366" y="7"/>
                  <a:pt x="397" y="0"/>
                  <a:pt x="423" y="12"/>
                </a:cubicBezTo>
                <a:cubicBezTo>
                  <a:pt x="429" y="15"/>
                  <a:pt x="474" y="93"/>
                  <a:pt x="485" y="104"/>
                </a:cubicBezTo>
                <a:cubicBezTo>
                  <a:pt x="501" y="157"/>
                  <a:pt x="554" y="168"/>
                  <a:pt x="592" y="204"/>
                </a:cubicBezTo>
                <a:cubicBezTo>
                  <a:pt x="611" y="222"/>
                  <a:pt x="654" y="250"/>
                  <a:pt x="654" y="250"/>
                </a:cubicBezTo>
                <a:cubicBezTo>
                  <a:pt x="681" y="292"/>
                  <a:pt x="717" y="318"/>
                  <a:pt x="738" y="365"/>
                </a:cubicBezTo>
                <a:cubicBezTo>
                  <a:pt x="745" y="380"/>
                  <a:pt x="749" y="396"/>
                  <a:pt x="754" y="412"/>
                </a:cubicBezTo>
                <a:cubicBezTo>
                  <a:pt x="757" y="420"/>
                  <a:pt x="762" y="435"/>
                  <a:pt x="762" y="435"/>
                </a:cubicBezTo>
                <a:cubicBezTo>
                  <a:pt x="758" y="493"/>
                  <a:pt x="781" y="597"/>
                  <a:pt x="708" y="619"/>
                </a:cubicBezTo>
                <a:cubicBezTo>
                  <a:pt x="635" y="612"/>
                  <a:pt x="569" y="597"/>
                  <a:pt x="500" y="573"/>
                </a:cubicBezTo>
                <a:cubicBezTo>
                  <a:pt x="440" y="594"/>
                  <a:pt x="399" y="634"/>
                  <a:pt x="346" y="665"/>
                </a:cubicBezTo>
                <a:cubicBezTo>
                  <a:pt x="299" y="693"/>
                  <a:pt x="245" y="703"/>
                  <a:pt x="192" y="719"/>
                </a:cubicBezTo>
                <a:cubicBezTo>
                  <a:pt x="140" y="707"/>
                  <a:pt x="99" y="703"/>
                  <a:pt x="54" y="673"/>
                </a:cubicBezTo>
                <a:cubicBezTo>
                  <a:pt x="27" y="634"/>
                  <a:pt x="15" y="594"/>
                  <a:pt x="0" y="550"/>
                </a:cubicBezTo>
                <a:cubicBezTo>
                  <a:pt x="9" y="536"/>
                  <a:pt x="24" y="527"/>
                  <a:pt x="31" y="512"/>
                </a:cubicBezTo>
                <a:cubicBezTo>
                  <a:pt x="45" y="484"/>
                  <a:pt x="54" y="443"/>
                  <a:pt x="62" y="412"/>
                </a:cubicBezTo>
                <a:cubicBezTo>
                  <a:pt x="53" y="360"/>
                  <a:pt x="54" y="381"/>
                  <a:pt x="54" y="350"/>
                </a:cubicBezTo>
                <a:close/>
              </a:path>
            </a:pathLst>
          </a:custGeom>
          <a:noFill/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7480" y="3833640"/>
            <a:ext cx="375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2560" y="3871800"/>
            <a:ext cx="37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32080" y="4164120"/>
            <a:ext cx="3174840" cy="744480"/>
          </a:xfrm>
          <a:custGeom>
            <a:avLst/>
            <a:gdLst/>
            <a:ahLst/>
            <a:rect l="l" t="t" r="r" b="b"/>
            <a:pathLst>
              <a:path w="2000" h="469">
                <a:moveTo>
                  <a:pt x="0" y="469"/>
                </a:moveTo>
                <a:lnTo>
                  <a:pt x="2000" y="254"/>
                </a:lnTo>
                <a:lnTo>
                  <a:pt x="1792" y="0"/>
                </a:lnTo>
                <a:lnTo>
                  <a:pt x="0" y="469"/>
                </a:lnTo>
                <a:close/>
              </a:path>
            </a:pathLst>
          </a:custGeom>
          <a:solidFill>
            <a:srgbClr val="006600"/>
          </a:solidFill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3419640"/>
            <a:ext cx="3027240" cy="1512720"/>
          </a:xfrm>
          <a:custGeom>
            <a:avLst/>
            <a:gdLst/>
            <a:ahLst/>
            <a:rect l="l" t="t" r="r" b="b"/>
            <a:pathLst>
              <a:path w="1907" h="953">
                <a:moveTo>
                  <a:pt x="269" y="946"/>
                </a:moveTo>
                <a:lnTo>
                  <a:pt x="1738" y="823"/>
                </a:lnTo>
                <a:lnTo>
                  <a:pt x="1907" y="107"/>
                </a:lnTo>
                <a:lnTo>
                  <a:pt x="0" y="0"/>
                </a:lnTo>
                <a:lnTo>
                  <a:pt x="223" y="953"/>
                </a:lnTo>
              </a:path>
            </a:pathLst>
          </a:custGeom>
          <a:solidFill>
            <a:srgbClr val="006600"/>
          </a:solidFill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9560" y="41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Othe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560" y="1557360"/>
            <a:ext cx="759924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Convex polyhedra 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[Iwano &amp; Steiglitz 9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B = {ax + by | x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A, y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* = convex hull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36840" y="3419640"/>
            <a:ext cx="1455480" cy="1501560"/>
          </a:xfrm>
          <a:custGeom>
            <a:avLst/>
            <a:gdLst/>
            <a:ahLst/>
            <a:rect l="l" t="t" r="r" b="b"/>
            <a:pathLst>
              <a:path w="917" h="946">
                <a:moveTo>
                  <a:pt x="901" y="400"/>
                </a:moveTo>
                <a:cubicBezTo>
                  <a:pt x="898" y="387"/>
                  <a:pt x="898" y="373"/>
                  <a:pt x="893" y="361"/>
                </a:cubicBezTo>
                <a:cubicBezTo>
                  <a:pt x="886" y="344"/>
                  <a:pt x="863" y="315"/>
                  <a:pt x="863" y="315"/>
                </a:cubicBezTo>
                <a:cubicBezTo>
                  <a:pt x="854" y="272"/>
                  <a:pt x="849" y="228"/>
                  <a:pt x="824" y="192"/>
                </a:cubicBezTo>
                <a:cubicBezTo>
                  <a:pt x="794" y="92"/>
                  <a:pt x="666" y="112"/>
                  <a:pt x="586" y="107"/>
                </a:cubicBezTo>
                <a:cubicBezTo>
                  <a:pt x="469" y="86"/>
                  <a:pt x="360" y="34"/>
                  <a:pt x="247" y="0"/>
                </a:cubicBezTo>
                <a:cubicBezTo>
                  <a:pt x="202" y="14"/>
                  <a:pt x="146" y="21"/>
                  <a:pt x="109" y="53"/>
                </a:cubicBezTo>
                <a:cubicBezTo>
                  <a:pt x="95" y="65"/>
                  <a:pt x="83" y="79"/>
                  <a:pt x="70" y="92"/>
                </a:cubicBezTo>
                <a:cubicBezTo>
                  <a:pt x="62" y="100"/>
                  <a:pt x="47" y="115"/>
                  <a:pt x="47" y="115"/>
                </a:cubicBezTo>
                <a:cubicBezTo>
                  <a:pt x="29" y="175"/>
                  <a:pt x="12" y="230"/>
                  <a:pt x="1" y="292"/>
                </a:cubicBezTo>
                <a:cubicBezTo>
                  <a:pt x="4" y="318"/>
                  <a:pt x="0" y="345"/>
                  <a:pt x="9" y="369"/>
                </a:cubicBezTo>
                <a:cubicBezTo>
                  <a:pt x="28" y="418"/>
                  <a:pt x="47" y="416"/>
                  <a:pt x="70" y="446"/>
                </a:cubicBezTo>
                <a:cubicBezTo>
                  <a:pt x="94" y="476"/>
                  <a:pt x="110" y="514"/>
                  <a:pt x="132" y="546"/>
                </a:cubicBezTo>
                <a:cubicBezTo>
                  <a:pt x="137" y="554"/>
                  <a:pt x="148" y="555"/>
                  <a:pt x="155" y="561"/>
                </a:cubicBezTo>
                <a:cubicBezTo>
                  <a:pt x="185" y="588"/>
                  <a:pt x="216" y="614"/>
                  <a:pt x="240" y="646"/>
                </a:cubicBezTo>
                <a:cubicBezTo>
                  <a:pt x="264" y="677"/>
                  <a:pt x="281" y="711"/>
                  <a:pt x="309" y="738"/>
                </a:cubicBezTo>
                <a:cubicBezTo>
                  <a:pt x="322" y="766"/>
                  <a:pt x="342" y="780"/>
                  <a:pt x="355" y="807"/>
                </a:cubicBezTo>
                <a:cubicBezTo>
                  <a:pt x="362" y="821"/>
                  <a:pt x="360" y="840"/>
                  <a:pt x="370" y="853"/>
                </a:cubicBezTo>
                <a:cubicBezTo>
                  <a:pt x="402" y="896"/>
                  <a:pt x="450" y="933"/>
                  <a:pt x="501" y="946"/>
                </a:cubicBezTo>
                <a:cubicBezTo>
                  <a:pt x="591" y="927"/>
                  <a:pt x="761" y="866"/>
                  <a:pt x="824" y="799"/>
                </a:cubicBezTo>
                <a:cubicBezTo>
                  <a:pt x="845" y="738"/>
                  <a:pt x="866" y="677"/>
                  <a:pt x="886" y="615"/>
                </a:cubicBezTo>
                <a:cubicBezTo>
                  <a:pt x="888" y="607"/>
                  <a:pt x="890" y="600"/>
                  <a:pt x="893" y="592"/>
                </a:cubicBezTo>
                <a:cubicBezTo>
                  <a:pt x="898" y="577"/>
                  <a:pt x="904" y="561"/>
                  <a:pt x="909" y="546"/>
                </a:cubicBezTo>
                <a:cubicBezTo>
                  <a:pt x="912" y="538"/>
                  <a:pt x="917" y="523"/>
                  <a:pt x="917" y="523"/>
                </a:cubicBezTo>
                <a:cubicBezTo>
                  <a:pt x="903" y="456"/>
                  <a:pt x="910" y="497"/>
                  <a:pt x="901" y="400"/>
                </a:cubicBezTo>
                <a:close/>
              </a:path>
            </a:pathLst>
          </a:custGeom>
          <a:solidFill>
            <a:srgbClr val="006600"/>
          </a:solidFill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59240" y="3595680"/>
            <a:ext cx="1239840" cy="1141560"/>
          </a:xfrm>
          <a:custGeom>
            <a:avLst/>
            <a:gdLst/>
            <a:ahLst/>
            <a:rect l="l" t="t" r="r" b="b"/>
            <a:pathLst>
              <a:path w="781" h="719">
                <a:moveTo>
                  <a:pt x="54" y="350"/>
                </a:moveTo>
                <a:cubicBezTo>
                  <a:pt x="49" y="332"/>
                  <a:pt x="38" y="315"/>
                  <a:pt x="38" y="296"/>
                </a:cubicBezTo>
                <a:cubicBezTo>
                  <a:pt x="38" y="285"/>
                  <a:pt x="61" y="221"/>
                  <a:pt x="62" y="219"/>
                </a:cubicBezTo>
                <a:cubicBezTo>
                  <a:pt x="75" y="194"/>
                  <a:pt x="100" y="141"/>
                  <a:pt x="115" y="127"/>
                </a:cubicBezTo>
                <a:cubicBezTo>
                  <a:pt x="134" y="109"/>
                  <a:pt x="159" y="100"/>
                  <a:pt x="177" y="81"/>
                </a:cubicBezTo>
                <a:cubicBezTo>
                  <a:pt x="197" y="59"/>
                  <a:pt x="185" y="67"/>
                  <a:pt x="215" y="58"/>
                </a:cubicBezTo>
                <a:cubicBezTo>
                  <a:pt x="252" y="32"/>
                  <a:pt x="296" y="19"/>
                  <a:pt x="338" y="4"/>
                </a:cubicBezTo>
                <a:cubicBezTo>
                  <a:pt x="366" y="7"/>
                  <a:pt x="397" y="0"/>
                  <a:pt x="423" y="12"/>
                </a:cubicBezTo>
                <a:cubicBezTo>
                  <a:pt x="429" y="15"/>
                  <a:pt x="474" y="93"/>
                  <a:pt x="485" y="104"/>
                </a:cubicBezTo>
                <a:cubicBezTo>
                  <a:pt x="501" y="157"/>
                  <a:pt x="554" y="168"/>
                  <a:pt x="592" y="204"/>
                </a:cubicBezTo>
                <a:cubicBezTo>
                  <a:pt x="611" y="222"/>
                  <a:pt x="654" y="250"/>
                  <a:pt x="654" y="250"/>
                </a:cubicBezTo>
                <a:cubicBezTo>
                  <a:pt x="681" y="292"/>
                  <a:pt x="717" y="318"/>
                  <a:pt x="738" y="365"/>
                </a:cubicBezTo>
                <a:cubicBezTo>
                  <a:pt x="745" y="380"/>
                  <a:pt x="749" y="396"/>
                  <a:pt x="754" y="412"/>
                </a:cubicBezTo>
                <a:cubicBezTo>
                  <a:pt x="757" y="420"/>
                  <a:pt x="762" y="435"/>
                  <a:pt x="762" y="435"/>
                </a:cubicBezTo>
                <a:cubicBezTo>
                  <a:pt x="758" y="493"/>
                  <a:pt x="781" y="597"/>
                  <a:pt x="708" y="619"/>
                </a:cubicBezTo>
                <a:cubicBezTo>
                  <a:pt x="635" y="612"/>
                  <a:pt x="569" y="597"/>
                  <a:pt x="500" y="573"/>
                </a:cubicBezTo>
                <a:cubicBezTo>
                  <a:pt x="440" y="594"/>
                  <a:pt x="399" y="634"/>
                  <a:pt x="346" y="665"/>
                </a:cubicBezTo>
                <a:cubicBezTo>
                  <a:pt x="299" y="693"/>
                  <a:pt x="245" y="703"/>
                  <a:pt x="192" y="719"/>
                </a:cubicBezTo>
                <a:cubicBezTo>
                  <a:pt x="140" y="707"/>
                  <a:pt x="99" y="703"/>
                  <a:pt x="54" y="673"/>
                </a:cubicBezTo>
                <a:cubicBezTo>
                  <a:pt x="27" y="634"/>
                  <a:pt x="15" y="594"/>
                  <a:pt x="0" y="550"/>
                </a:cubicBezTo>
                <a:cubicBezTo>
                  <a:pt x="9" y="536"/>
                  <a:pt x="24" y="527"/>
                  <a:pt x="31" y="512"/>
                </a:cubicBezTo>
                <a:cubicBezTo>
                  <a:pt x="45" y="484"/>
                  <a:pt x="54" y="443"/>
                  <a:pt x="62" y="412"/>
                </a:cubicBezTo>
                <a:cubicBezTo>
                  <a:pt x="53" y="360"/>
                  <a:pt x="54" y="381"/>
                  <a:pt x="54" y="350"/>
                </a:cubicBezTo>
                <a:close/>
              </a:path>
            </a:pathLst>
          </a:custGeom>
          <a:solidFill>
            <a:srgbClr val="006600"/>
          </a:solidFill>
          <a:ln w="28440">
            <a:solidFill>
              <a:srgbClr val="6ff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57480" y="3833640"/>
            <a:ext cx="375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32560" y="3871800"/>
            <a:ext cx="37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0600" y="873000"/>
            <a:ext cx="8064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wis721 Ex BT"/>
              </a:rPr>
              <a:t>Hoare Logic</a:t>
            </a:r>
            <a:br>
              <a:rPr sz="3600"/>
            </a:br>
            <a:r>
              <a:rPr b="0" lang="en-US" sz="2800" spc="-1" strike="noStrike">
                <a:solidFill>
                  <a:srgbClr val="ff3300"/>
                </a:solidFill>
                <a:latin typeface="Swis721 Ex BT"/>
              </a:rPr>
              <a:t>C. A. R. “Sir Tony” Hoare, 19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0960" y="2585520"/>
            <a:ext cx="74851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The first formal system for verification of well-structure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nitiated the field of program 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nspiration of hundred of technical articles, books, book chapters,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Turing Award 1980, knighted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11200" y="792000"/>
            <a:ext cx="5895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Partial Correctness As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52560" y="2232000"/>
            <a:ext cx="73213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    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post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   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precond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‘‘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holds in the current state, and if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is executed starting in the current state, then if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halts,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will be true of the halting state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246320" y="2752560"/>
            <a:ext cx="36360" cy="890640"/>
          </a:xfrm>
          <a:prstGeom prst="line">
            <a:avLst/>
          </a:prstGeom>
          <a:ln w="28440">
            <a:solidFill>
              <a:srgbClr val="40ff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076480" y="2739960"/>
            <a:ext cx="133200" cy="417600"/>
          </a:xfrm>
          <a:prstGeom prst="line">
            <a:avLst/>
          </a:prstGeom>
          <a:ln w="28440">
            <a:solidFill>
              <a:srgbClr val="40ff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658520" y="2790720"/>
            <a:ext cx="25560" cy="5968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923760" y="2031840"/>
            <a:ext cx="2943360" cy="1044360"/>
            <a:chOff x="923760" y="2031840"/>
            <a:chExt cx="2943360" cy="1044360"/>
          </a:xfrm>
        </p:grpSpPr>
        <p:sp>
          <p:nvSpPr>
            <p:cNvPr id="233" name=""/>
            <p:cNvSpPr/>
            <p:nvPr/>
          </p:nvSpPr>
          <p:spPr>
            <a:xfrm>
              <a:off x="1198440" y="2031840"/>
              <a:ext cx="23907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b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}</a:t>
              </a:r>
              <a:r>
                <a:rPr b="0" lang="en-US" sz="2400" spc="-1" strike="noStrike">
                  <a:solidFill>
                    <a:srgbClr val="6ff1ff"/>
                  </a:solidFill>
                  <a:latin typeface="Swis721 Ex BT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wis721 Ex BT"/>
                </a:rPr>
                <a:t>  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q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d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b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q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d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23760" y="2627280"/>
              <a:ext cx="2943360" cy="0"/>
            </a:xfrm>
            <a:prstGeom prst="line">
              <a:avLst/>
            </a:prstGeom>
            <a:ln w="19080">
              <a:solidFill>
                <a:srgbClr val="6f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351760" y="2278080"/>
            <a:ext cx="2602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mposi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99520" y="3106800"/>
            <a:ext cx="3350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then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els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38240" y="3703680"/>
            <a:ext cx="368784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41720" y="327672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25120" y="3352680"/>
            <a:ext cx="2425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ndition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71800" y="4181400"/>
            <a:ext cx="286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while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d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9080" y="4767120"/>
            <a:ext cx="312588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8520" y="4830840"/>
            <a:ext cx="2016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080" y="4427640"/>
            <a:ext cx="158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whil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25360" y="1433520"/>
            <a:ext cx="2414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[x/e]}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x:=e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54640" y="1422360"/>
            <a:ext cx="250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assignmen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79200" y="5249880"/>
            <a:ext cx="3657600" cy="1044360"/>
            <a:chOff x="979200" y="5249880"/>
            <a:chExt cx="3657600" cy="1044360"/>
          </a:xfrm>
        </p:grpSpPr>
        <p:sp>
          <p:nvSpPr>
            <p:cNvPr id="247" name=""/>
            <p:cNvSpPr/>
            <p:nvPr/>
          </p:nvSpPr>
          <p:spPr>
            <a:xfrm>
              <a:off x="1296000" y="5249880"/>
              <a:ext cx="3073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b’ </a:t>
              </a:r>
              <a:r>
                <a:rPr b="0" lang="en-US" sz="24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b, {b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}, c </a:t>
              </a:r>
              <a:r>
                <a:rPr b="0" lang="en-US" sz="24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 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b’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’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79200" y="5838840"/>
              <a:ext cx="3657600" cy="0"/>
            </a:xfrm>
            <a:prstGeom prst="line">
              <a:avLst/>
            </a:prstGeom>
            <a:ln w="19080">
              <a:solidFill>
                <a:srgbClr val="6f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8080" y="5500800"/>
            <a:ext cx="2388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weaken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2840" y="423720"/>
            <a:ext cx="4103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Rules of Hoare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4880" y="580680"/>
            <a:ext cx="699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Dynamic Logic</a:t>
            </a:r>
            <a:r>
              <a:rPr b="0" lang="en-US" sz="3200" spc="-1" strike="noStrike">
                <a:solidFill>
                  <a:srgbClr val="ff3300"/>
                </a:solidFill>
                <a:latin typeface="Swis721 Ex BT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Swis721 Ex BT"/>
              </a:rPr>
              <a:t>[Pratt 7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28040" y="1711440"/>
            <a:ext cx="62128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&lt;p&gt;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“Starting from the current state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is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possible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for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to halt in a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satisfying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[p]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“Starting from the current state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is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necessary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that if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halts, it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so in a state satisfying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Swis721 Ex BT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DL subsumes HL  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  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[p]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8960" y="528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Propositional Dynamic Logic (PDL)</a:t>
            </a:r>
            <a:br>
              <a:rPr sz="3200"/>
            </a:b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Fischer &amp; Ladner 197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1893960"/>
            <a:ext cx="6310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propositional modal logic + Kleene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4960" y="2674800"/>
            <a:ext cx="576900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program operators </a:t>
            </a:r>
            <a:r>
              <a:rPr b="0" lang="en-US" sz="2400" spc="-1" strike="noStrike">
                <a:solidFill>
                  <a:srgbClr val="3333cc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;  +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propositional operators  </a:t>
            </a:r>
            <a:r>
              <a:rPr b="1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40ff40"/>
                </a:solidFill>
                <a:latin typeface="Swis721 Ex BT"/>
              </a:rPr>
              <a:t>  </a:t>
            </a:r>
            <a:r>
              <a:rPr b="1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40ff40"/>
                </a:solidFill>
                <a:latin typeface="Swis721 Ex BT"/>
              </a:rPr>
              <a:t>  </a:t>
            </a:r>
            <a:r>
              <a:rPr b="1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mixed operators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&lt;p&gt;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 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[p]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 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binary relations (input/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0600" y="1507680"/>
            <a:ext cx="78390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While programs in PDL</a:t>
            </a:r>
            <a:br>
              <a:rPr sz="3200"/>
            </a:b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Fischer &amp; Ladner 7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7200" y="3075120"/>
            <a:ext cx="78534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then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els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?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;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+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?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;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while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d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(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?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;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)*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;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9440" y="947880"/>
            <a:ext cx="7839000" cy="11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Results about P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040" y="2336760"/>
            <a:ext cx="785340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complete deductive system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 [Segerberg 77, Gabbay 77, Parikh 7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[p*]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(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[p]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)   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[p*]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EXPTIME-complet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Pratt 7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06600" y="1730520"/>
            <a:ext cx="804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For many applications in C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(simpl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manipulations, safety analysis, local optimizations)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don’t need the full power of PDL—equational reasoning su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need 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tests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to model convention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construct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(if-then-else, while-do,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2840" y="1854360"/>
            <a:ext cx="51307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q + qp                                         p*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{pq,qp}                                         {q,pq,p</a:t>
            </a:r>
            <a:r>
              <a:rPr b="0" lang="en-US" sz="1600" spc="-1" strike="noStrike" baseline="30000">
                <a:solidFill>
                  <a:srgbClr val="40ff40"/>
                </a:solidFill>
                <a:latin typeface="Swis721 Ex BT"/>
              </a:rPr>
              <a:t>2</a:t>
            </a: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q,p</a:t>
            </a:r>
            <a:r>
              <a:rPr b="0" lang="en-US" sz="1600" spc="-1" strike="noStrike" baseline="30000">
                <a:solidFill>
                  <a:srgbClr val="40ff40"/>
                </a:solidFill>
                <a:latin typeface="Swis721 Ex BT"/>
              </a:rPr>
              <a:t>3</a:t>
            </a: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q, 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(p + q)*  =  (p*q)*p*                           (pq)*p  =  p(qp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{all strings over p,q}                          {p,pqp,pqpqp,</a:t>
            </a:r>
            <a:r>
              <a:rPr b="0" lang="en-US" sz="1600" spc="-1" strike="noStrike">
                <a:solidFill>
                  <a:srgbClr val="40ff40"/>
                </a:solidFill>
                <a:latin typeface="Symbol"/>
                <a:ea typeface="Symbol"/>
              </a:rPr>
              <a:t></a:t>
            </a: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(0 + 1(01*0)*1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ff40"/>
                </a:solidFill>
                <a:latin typeface="Swis721 Ex BT"/>
              </a:rPr>
              <a:t>{multiples of 3 in bina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360" y="58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Kleene Algebra (KA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is the algebra of </a:t>
            </a:r>
            <a:r>
              <a:rPr b="0" lang="en-US" sz="2400" spc="-1" strike="noStrike">
                <a:solidFill>
                  <a:srgbClr val="ff0b0b"/>
                </a:solidFill>
                <a:latin typeface="Swis721 Ex BT"/>
              </a:rPr>
              <a:t>regular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8520" y="5097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22960" y="524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2960" y="5859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3040" y="524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83040" y="5859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4320" y="579420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7240" y="579420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51600" y="5792760"/>
            <a:ext cx="889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 flipH="1" rot="10800000">
            <a:off x="4325400" y="5796720"/>
            <a:ext cx="45360" cy="45360"/>
          </a:xfrm>
          <a:prstGeom prst="curvedConnector5">
            <a:avLst>
              <a:gd name="adj1" fmla="val -1256800"/>
              <a:gd name="adj2" fmla="val 623200"/>
              <a:gd name="adj3" fmla="val -12568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 flipH="1" flipV="1">
            <a:off x="6955560" y="578880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 flipH="1">
            <a:off x="6989040" y="5808600"/>
            <a:ext cx="45000" cy="45360"/>
          </a:xfrm>
          <a:prstGeom prst="curvedConnector5">
            <a:avLst>
              <a:gd name="adj1" fmla="val -1256451"/>
              <a:gd name="adj2" fmla="val 623200"/>
              <a:gd name="adj3" fmla="val -1256451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6"/>
            <a:endCxn id="55" idx="2"/>
          </p:cNvCxnSpPr>
          <p:nvPr/>
        </p:nvCxnSpPr>
        <p:spPr>
          <a:xfrm>
            <a:off x="4413240" y="5838480"/>
            <a:ext cx="1224720" cy="1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6"/>
            <a:endCxn id="58" idx="6"/>
          </p:cNvCxnSpPr>
          <p:nvPr/>
        </p:nvCxnSpPr>
        <p:spPr>
          <a:xfrm flipV="1">
            <a:off x="5725800" y="5833440"/>
            <a:ext cx="1230840" cy="540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5" idx="1"/>
            <a:endCxn id="54" idx="7"/>
          </p:cNvCxnSpPr>
          <p:nvPr/>
        </p:nvCxnSpPr>
        <p:spPr>
          <a:xfrm rot="5400000">
            <a:off x="5023800" y="5183280"/>
            <a:ext cx="2160" cy="1249920"/>
          </a:xfrm>
          <a:prstGeom prst="curvedConnector5">
            <a:avLst>
              <a:gd name="adj1" fmla="val -15200000"/>
              <a:gd name="adj2" fmla="val 49985"/>
              <a:gd name="adj3" fmla="val -1520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8" idx="4"/>
            <a:endCxn id="55" idx="7"/>
          </p:cNvCxnSpPr>
          <p:nvPr/>
        </p:nvCxnSpPr>
        <p:spPr>
          <a:xfrm rot="5400000">
            <a:off x="6347880" y="5153760"/>
            <a:ext cx="18360" cy="1288080"/>
          </a:xfrm>
          <a:prstGeom prst="curvedConnector5">
            <a:avLst>
              <a:gd name="adj1" fmla="val -1308000"/>
              <a:gd name="adj2" fmla="val 49986"/>
              <a:gd name="adj3" fmla="val -1308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 flipV="1">
            <a:off x="4138560" y="5869080"/>
            <a:ext cx="214200" cy="24768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94080" y="5762520"/>
            <a:ext cx="147600" cy="147600"/>
          </a:xfrm>
          <a:prstGeom prst="ellipse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9040" y="6227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33160" y="21366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88680" y="28494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8680" y="21366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33160" y="28494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0360" y="219564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0360" y="306396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75040" y="2629080"/>
            <a:ext cx="88560" cy="88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7120" y="2629080"/>
            <a:ext cx="88920" cy="88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3" idx="7"/>
            <a:endCxn id="71" idx="3"/>
          </p:cNvCxnSpPr>
          <p:nvPr/>
        </p:nvCxnSpPr>
        <p:spPr>
          <a:xfrm flipV="1">
            <a:off x="2150640" y="2271240"/>
            <a:ext cx="832680" cy="37080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2" idx="7"/>
            <a:endCxn id="74" idx="3"/>
          </p:cNvCxnSpPr>
          <p:nvPr/>
        </p:nvCxnSpPr>
        <p:spPr>
          <a:xfrm flipV="1">
            <a:off x="3045960" y="2704680"/>
            <a:ext cx="834120" cy="37224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3" idx="5"/>
            <a:endCxn id="72" idx="1"/>
          </p:cNvCxnSpPr>
          <p:nvPr/>
        </p:nvCxnSpPr>
        <p:spPr>
          <a:xfrm>
            <a:off x="2150640" y="2705040"/>
            <a:ext cx="832680" cy="37224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1" idx="5"/>
            <a:endCxn id="74" idx="1"/>
          </p:cNvCxnSpPr>
          <p:nvPr/>
        </p:nvCxnSpPr>
        <p:spPr>
          <a:xfrm>
            <a:off x="3045960" y="2271600"/>
            <a:ext cx="834120" cy="37080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847880" y="2671920"/>
            <a:ext cx="23796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33640" y="2600280"/>
            <a:ext cx="147960" cy="147600"/>
          </a:xfrm>
          <a:prstGeom prst="ellipse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8960" y="35002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,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9720" y="431964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 flipH="1" rot="10800000">
            <a:off x="4150800" y="4322160"/>
            <a:ext cx="45360" cy="45000"/>
          </a:xfrm>
          <a:prstGeom prst="curvedConnector5">
            <a:avLst>
              <a:gd name="adj1" fmla="val -1256800"/>
              <a:gd name="adj2" fmla="val 622580"/>
              <a:gd name="adj3" fmla="val -12568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 flipV="1">
            <a:off x="3963960" y="4394160"/>
            <a:ext cx="214200" cy="24768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9480" y="4287960"/>
            <a:ext cx="147600" cy="147600"/>
          </a:xfrm>
          <a:prstGeom prst="ellipse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32680" y="276372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276372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6" idx="6"/>
            <a:endCxn id="87" idx="2"/>
          </p:cNvCxnSpPr>
          <p:nvPr/>
        </p:nvCxnSpPr>
        <p:spPr>
          <a:xfrm>
            <a:off x="7221600" y="2808000"/>
            <a:ext cx="1224720" cy="1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6" idx="2"/>
            <a:endCxn id="86" idx="0"/>
          </p:cNvCxnSpPr>
          <p:nvPr/>
        </p:nvCxnSpPr>
        <p:spPr>
          <a:xfrm flipH="1" rot="10800000">
            <a:off x="7131600" y="2763000"/>
            <a:ext cx="45000" cy="45360"/>
          </a:xfrm>
          <a:prstGeom prst="curvedConnector5">
            <a:avLst>
              <a:gd name="adj1" fmla="val -1256451"/>
              <a:gd name="adj2" fmla="val 623200"/>
              <a:gd name="adj3" fmla="val -1256451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 flipV="1">
            <a:off x="6951600" y="2827440"/>
            <a:ext cx="214200" cy="24768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10680" y="2727360"/>
            <a:ext cx="147600" cy="147600"/>
          </a:xfrm>
          <a:prstGeom prst="ellipse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68400" y="2133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68720" y="27655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83120" y="417996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6840" y="417996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9760" y="4179960"/>
            <a:ext cx="88920" cy="8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7205760" y="4223880"/>
            <a:ext cx="1224720" cy="1080"/>
          </a:xfrm>
          <a:prstGeom prst="straightConnector1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6" idx="1"/>
            <a:endCxn id="95" idx="7"/>
          </p:cNvCxnSpPr>
          <p:nvPr/>
        </p:nvCxnSpPr>
        <p:spPr>
          <a:xfrm rot="5400000">
            <a:off x="7815960" y="3568320"/>
            <a:ext cx="2160" cy="1250280"/>
          </a:xfrm>
          <a:prstGeom prst="curvedConnector5">
            <a:avLst>
              <a:gd name="adj1" fmla="val -15200000"/>
              <a:gd name="adj2" fmla="val 50000"/>
              <a:gd name="adj3" fmla="val -1520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6881760" y="4229280"/>
            <a:ext cx="23832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97720" y="4156200"/>
            <a:ext cx="147960" cy="147600"/>
          </a:xfrm>
          <a:prstGeom prst="ellipse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3120" y="35971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f1ff"/>
                </a:solidFill>
                <a:latin typeface="Swis721 Ex BT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19160" y="1913040"/>
            <a:ext cx="715968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Swis721 Ex BT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Swis721 Ex BT"/>
              </a:rPr>
              <a:t>K</a:t>
            </a:r>
            <a:r>
              <a:rPr b="0" lang="en-US" sz="2800" spc="-1" strike="noStrike">
                <a:solidFill>
                  <a:srgbClr val="00ffff"/>
                </a:solidFill>
                <a:latin typeface="Swis721 Ex BT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800" spc="-1" strike="noStrike">
                <a:solidFill>
                  <a:srgbClr val="00ffff"/>
                </a:solidFill>
                <a:latin typeface="Swis721 Ex BT"/>
              </a:rPr>
              <a:t>, +, ·, *, ¯, 0,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(K, +, ·, *, 0, 1)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 is a Kleene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(B, +, ·,</a:t>
            </a:r>
            <a:r>
              <a:rPr b="1" lang="en-US" sz="2400" spc="-1" strike="noStrike">
                <a:solidFill>
                  <a:srgbClr val="66ff66"/>
                </a:solidFill>
                <a:latin typeface="Swis721 Ex BT"/>
              </a:rPr>
              <a:t> ¯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, 0, 1)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 is a Boolean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,q,r,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range over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a,b,c,</a:t>
            </a:r>
            <a:r>
              <a:rPr b="0" lang="en-US" sz="2400" spc="-1" strike="noStrike">
                <a:solidFill>
                  <a:srgbClr val="66ff66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range over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19160" y="755280"/>
            <a:ext cx="74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Kleene Algebra with Tests (K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19160" y="1913040"/>
            <a:ext cx="715968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+, ·, 0, 1 serve double du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applied t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rograms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, denot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choice, composition, fail,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nd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skip,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re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applied to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tests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, denote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isjunction, conjunction, falsity,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nd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truth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, re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these usages do not confli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c = b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c       b + c = b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9160" y="755280"/>
            <a:ext cx="74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Kleene Algebra with Tests (K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4640" y="37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0200" y="1476360"/>
            <a:ext cx="80089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Relation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K = binary relations on a se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Swis721 Ex BT"/>
              </a:rPr>
              <a:t>B = subsets of the identity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Trac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K = sets of traces 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u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u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u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2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… u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n-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-1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u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Swis721 Ex BT"/>
              </a:rPr>
              <a:t>B = sets of traces of leng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Language-theoret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K = regular sets of </a:t>
            </a:r>
            <a:r>
              <a:rPr b="0" lang="en-US" sz="2000" spc="-1" strike="noStrike">
                <a:solidFill>
                  <a:srgbClr val="ffff00"/>
                </a:solidFill>
                <a:latin typeface="Swis721 Ex BT"/>
              </a:rPr>
              <a:t>guarded strings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 over 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Swis721 Ex BT"/>
              </a:rPr>
              <a:t>B = atoms of a finite free Boolean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9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Guarded String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Kaplan 6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880" y="1320840"/>
            <a:ext cx="80769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  atomic programs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  atomic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,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,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atoms (minimal nonzero elements) of the free Boolean algebra on generators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e.g. if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 = {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,...,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6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}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, then 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2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3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4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5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6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is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guarded strings   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2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2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3</a:t>
            </a:r>
            <a:r>
              <a:rPr b="0" lang="en-US" sz="2000" spc="-1" strike="noStrike" baseline="-25000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-1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-1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+B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=  A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B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=  {x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y | x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A, </a:t>
            </a:r>
            <a:r>
              <a:rPr b="0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y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A*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= U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 A</a:t>
            </a:r>
            <a:r>
              <a:rPr b="0" lang="en-US" sz="2000" spc="-1" strike="noStrike" baseline="30000">
                <a:solidFill>
                  <a:srgbClr val="40ff40"/>
                </a:solidFill>
                <a:latin typeface="Swis721 Ex B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= {atom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0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=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44920" y="3032280"/>
            <a:ext cx="173160" cy="792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313240" y="3035160"/>
            <a:ext cx="173160" cy="792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605560" y="3032280"/>
            <a:ext cx="172800" cy="792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14240" y="1238400"/>
            <a:ext cx="77155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Theorem [K &amp; Smith 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The family of regular sets of guarded strings over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is the free KAT on generators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Coro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KAT is complete over relational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Eq(GS)  = Eq(KAT)  = Eq(KAT*)  =  Eq(R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91640" y="475920"/>
            <a:ext cx="73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Completeness and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2640" y="1574640"/>
            <a:ext cx="768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Deductively complete for the equational theory of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 regular sets of guarded strings and relational models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K+Smith 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Complexity: Equational theory is PSPACE-complet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K+S 96, Cohen+K+S 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Hoare theory (Horn formulas with premises of form p=0) is PSPACE-complet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[K+S 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10000"/>
              </a:lnSpc>
              <a:buClr>
                <a:srgbClr val="00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Full Horn theory is still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50000">
                <a:solidFill>
                  <a:srgbClr val="00ff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00ffff"/>
                </a:solidFill>
                <a:latin typeface="Swis721 Ex BT"/>
              </a:rPr>
              <a:t>-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00760" y="5711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ffff"/>
                </a:solidFill>
                <a:latin typeface="Swis721 Ex B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26840" y="1068120"/>
            <a:ext cx="78390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atrices over a 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7200" y="2541600"/>
            <a:ext cx="78534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The n x n matrices over a KAT (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K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) forms a KAT (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K’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’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’  =  diagonal matrices ov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6840" y="1068120"/>
            <a:ext cx="78390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Modeling Programs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same as in PDL </a:t>
            </a:r>
            <a:r>
              <a:rPr b="0" lang="en-US" sz="2400" spc="-1" strike="noStrike">
                <a:solidFill>
                  <a:srgbClr val="ff0b0b"/>
                </a:solidFill>
                <a:latin typeface="Swis721 Ex BT"/>
              </a:rPr>
              <a:t>[Fischer &amp; Ladner 7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7200" y="2744640"/>
            <a:ext cx="78534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;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then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els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+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while 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d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(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)*</a:t>
            </a:r>
            <a:r>
              <a:rPr b="0" lang="en-US" sz="2400" spc="-1" strike="noStrike">
                <a:solidFill>
                  <a:srgbClr val="66ff66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0480" y="3565440"/>
            <a:ext cx="203400" cy="0"/>
          </a:xfrm>
          <a:prstGeom prst="line">
            <a:avLst/>
          </a:prstGeom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52960"/>
            <a:ext cx="203040" cy="0"/>
          </a:xfrm>
          <a:prstGeom prst="line">
            <a:avLst/>
          </a:prstGeom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30920" y="666720"/>
            <a:ext cx="622944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Propositional Hoare Logic (PH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Hoare Logic without the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assignmen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[x/t]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x := t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s a given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a logical consequence of the compos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conditional, while, and weakening ru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relationally val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8240" y="3274920"/>
            <a:ext cx="28206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{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}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{c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1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}, ..., {b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}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Swis721 Ex BT"/>
              </a:rPr>
              <a:t>n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{c</a:t>
            </a:r>
            <a:r>
              <a:rPr b="0" lang="en-US" sz="2000" spc="-1" strike="noStrike" baseline="-25000">
                <a:solidFill>
                  <a:srgbClr val="40ff40"/>
                </a:solidFill>
                <a:latin typeface="Swis721 Ex BT"/>
              </a:rPr>
              <a:t>n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0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90800" y="3774960"/>
            <a:ext cx="324936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80920" y="874800"/>
            <a:ext cx="726948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KAT subsumes P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 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s modeled by any of the following equivalent equations &amp; inequa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buClr>
                <a:srgbClr val="40ff40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87680" y="537048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442116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74760" y="436572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31480" y="657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wis721 Ex BT"/>
              </a:rPr>
              <a:t>Standard Interpr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1840" y="1606680"/>
            <a:ext cx="58532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Regular sets ove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+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A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{xy | x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A, y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*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U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wis721 Ex BT"/>
              </a:rPr>
              <a:t>n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A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n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A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2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1800" spc="-1" strike="noStrike">
                <a:solidFill>
                  <a:srgbClr val="6ff1ff"/>
                </a:solidFill>
                <a:latin typeface="Swis721 Ex B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{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p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interpreted as  {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90760" y="536400"/>
            <a:ext cx="2390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1109520"/>
            <a:ext cx="294336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64720" y="776160"/>
            <a:ext cx="2602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mposi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93200" y="2522520"/>
            <a:ext cx="3350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then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els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31920" y="3083040"/>
            <a:ext cx="368784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27480" y="268272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3280" y="2752560"/>
            <a:ext cx="2425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ndition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52880" y="4508640"/>
            <a:ext cx="286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while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d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1560" y="5070600"/>
            <a:ext cx="328428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22840" y="515160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6720" y="4748040"/>
            <a:ext cx="158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whil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146160" y="2455920"/>
            <a:ext cx="95616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46040" y="4487760"/>
            <a:ext cx="978696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90760" y="536400"/>
            <a:ext cx="2390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1109520"/>
            <a:ext cx="294336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64720" y="776160"/>
            <a:ext cx="2602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mposi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3200" y="2522520"/>
            <a:ext cx="3350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,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f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then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else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31920" y="3083040"/>
            <a:ext cx="368784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27480" y="268272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3280" y="2752560"/>
            <a:ext cx="2425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condition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2880" y="4508640"/>
            <a:ext cx="286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while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do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b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1560" y="5070600"/>
            <a:ext cx="328428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2840" y="515160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6720" y="4748040"/>
            <a:ext cx="158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whil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61320" y="1676520"/>
            <a:ext cx="4755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 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960" y="3662280"/>
            <a:ext cx="5821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c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c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 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(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+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q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)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d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09960" y="389268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97320" y="389736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94200" y="389736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69320" y="389880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77200" y="389880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97880" y="5649840"/>
            <a:ext cx="4336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c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 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(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)*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b bc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08160" y="594216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70640" y="588024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81680" y="588636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83120" y="5824440"/>
            <a:ext cx="38592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8200" y="198612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30600" y="191628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51800" y="1920960"/>
            <a:ext cx="2030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46160" y="2455920"/>
            <a:ext cx="95616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446040" y="4487760"/>
            <a:ext cx="978696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96760" y="795240"/>
            <a:ext cx="7348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These are all theorems of 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Completeness Theorem</a:t>
            </a:r>
            <a:r>
              <a:rPr b="0" lang="en-US" sz="2400" spc="-1" strike="noStrike">
                <a:solidFill>
                  <a:srgbClr val="ff0000"/>
                </a:solidFill>
                <a:latin typeface="Swis721 Ex BT"/>
              </a:rPr>
              <a:t>  [K 9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Swis721 Ex BT"/>
              </a:rPr>
              <a:t>All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relationally valid rul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are derivable in KAT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(not so for P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68360" y="3432240"/>
            <a:ext cx="4213080" cy="1109880"/>
            <a:chOff x="2268360" y="3432240"/>
            <a:chExt cx="4213080" cy="1109880"/>
          </a:xfrm>
        </p:grpSpPr>
        <p:sp>
          <p:nvSpPr>
            <p:cNvPr id="332" name=""/>
            <p:cNvSpPr/>
            <p:nvPr/>
          </p:nvSpPr>
          <p:spPr>
            <a:xfrm>
              <a:off x="2707560" y="3432240"/>
              <a:ext cx="335052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b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1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Swis721 Ex BT"/>
                </a:rPr>
                <a:t>1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1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}, ..., {b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n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Swis721 Ex BT"/>
                </a:rPr>
                <a:t>n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</a:t>
              </a:r>
              <a:r>
                <a:rPr b="0" lang="en-US" sz="2400" spc="-1" strike="noStrike" baseline="-25000">
                  <a:solidFill>
                    <a:srgbClr val="40ff40"/>
                  </a:solidFill>
                  <a:latin typeface="Swis721 Ex BT"/>
                </a:rPr>
                <a:t>n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b}</a:t>
              </a:r>
              <a:r>
                <a:rPr b="0" lang="en-US" sz="2400" spc="-1" strike="noStrike">
                  <a:solidFill>
                    <a:srgbClr val="ff00ff"/>
                  </a:solidFill>
                  <a:latin typeface="Swis721 Ex BT"/>
                </a:rPr>
                <a:t>p</a:t>
              </a:r>
              <a:r>
                <a:rPr b="0" lang="en-US" sz="2400" spc="-1" strike="noStrike">
                  <a:solidFill>
                    <a:srgbClr val="40ff40"/>
                  </a:solidFill>
                  <a:latin typeface="Swis721 Ex BT"/>
                </a:rPr>
                <a:t>{c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68360" y="4016160"/>
              <a:ext cx="4213080" cy="0"/>
            </a:xfrm>
            <a:prstGeom prst="line">
              <a:avLst/>
            </a:prstGeom>
            <a:ln w="19080">
              <a:solidFill>
                <a:srgbClr val="6ff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96760" y="795240"/>
            <a:ext cx="73486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Counter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16080" y="1685880"/>
            <a:ext cx="3309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if b then p else 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{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2000" y="2268360"/>
            <a:ext cx="3638520" cy="0"/>
          </a:xfrm>
          <a:prstGeom prst="line">
            <a:avLst/>
          </a:prstGeom>
          <a:ln w="19080">
            <a:solidFill>
              <a:srgbClr val="6f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14000" y="3021120"/>
            <a:ext cx="603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s trivially unprovable in Hoare Logic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(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+ b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)c = 0 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  c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>
                <a:solidFill>
                  <a:srgbClr val="40ff40"/>
                </a:solidFill>
                <a:latin typeface="Swis721 Ex BT"/>
              </a:rPr>
              <a:t>c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is easily provable in 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7880" y="418320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9600" y="417672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36680" y="4133880"/>
            <a:ext cx="20340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38160" y="851040"/>
            <a:ext cx="734868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Hoare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= 0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Swis721 Ex BT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= 0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...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Swis721 Ex BT"/>
              </a:rPr>
              <a:t>n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= 0 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 q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KAT is complete for the Hoare theory of relational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... not for the Horn theo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Counterexample: 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p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1 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 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Swis721 Ex BT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=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2040" y="75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2040" y="2220840"/>
            <a:ext cx="82119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Theorem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[Berstel 7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t is undecidable whether a given equation holds under a given set of commutativity conditions in all *-continuous Kleene alge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Theorem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[K 9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...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 -comple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520" y="4589640"/>
            <a:ext cx="2674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f1ff"/>
                </a:solidFill>
                <a:latin typeface="Swis721 Ex B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f1ff"/>
                </a:solidFill>
                <a:latin typeface="Swis721 Ex B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06520" y="2314440"/>
            <a:ext cx="650844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Theorem [K 99, K + Hardin 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The universal Horn theories of KA*, KAT*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REL are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 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Q:</a:t>
            </a:r>
            <a:r>
              <a:rPr b="0" lang="en-US" sz="2000" spc="-1" strike="noStrike">
                <a:solidFill>
                  <a:srgbClr val="ffff0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s there a natural example of a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n H(KA*) </a:t>
            </a:r>
            <a:r>
              <a:rPr b="0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H(KA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Q:</a:t>
            </a:r>
            <a:r>
              <a:rPr b="0" lang="en-US" sz="2000" spc="-1" strike="noStrike">
                <a:solidFill>
                  <a:srgbClr val="ffff00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s H(REL) finitely axiomatizable relative to H(KA*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wis721 Ex BT"/>
              </a:rPr>
              <a:t>Q: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What is the complexity of H(KA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58680" y="82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Horn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58680" y="2309760"/>
            <a:ext cx="7047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98280" y="3090960"/>
            <a:ext cx="2674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f1ff"/>
                </a:solidFill>
                <a:latin typeface="Swis721 Ex B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f1ff"/>
                </a:solidFill>
                <a:latin typeface="Swis721 Ex B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6400" y="63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Complexity of KAT and P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7560" y="1917720"/>
            <a:ext cx="71308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wis721 Ex BT"/>
              </a:rPr>
              <a:t>Theorem [Cohen 9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The Hoare theory of KA (Horn formulas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premises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 = 0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) is PSPACE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wis721 Ex BT"/>
              </a:rPr>
              <a:t>Theorem [Cohen, Kozen &amp; Smith 9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The Hoare theory of KAT is PSPACE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wis721 Ex BT"/>
              </a:rPr>
              <a:t>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PHL is PSPACE-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63640" y="728640"/>
            <a:ext cx="779472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chematic KAT (SK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s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y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y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[x/s]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 y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FV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s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y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s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y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[x/s]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 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FV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s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[x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[x/t]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= 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63640" y="728640"/>
            <a:ext cx="7794720" cy="42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 := s ; y := t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y := t ; x := s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(x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Var(t), y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Var(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 := t ;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 x := t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(x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Var(b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 := s 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 := s ;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x = s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(x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Var(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x = s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x = s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; x :=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23840" y="561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wis721 Ex BT"/>
              </a:rPr>
              <a:t>Binary Re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3840" y="1706400"/>
            <a:ext cx="7599600" cy="38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wis721 Ex BT"/>
              </a:rPr>
              <a:t>R, S binary relations on a se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+S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R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S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R ° S = {(u,v) |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w (u,w)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R, (w,v)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*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reflexive transitive closure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U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wis721 Ex BT"/>
              </a:rPr>
              <a:t>n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R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n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= R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R</a:t>
            </a:r>
            <a:r>
              <a:rPr b="0" lang="en-US" sz="2400" spc="-1" strike="noStrike" baseline="30000">
                <a:solidFill>
                  <a:srgbClr val="6ff1ff"/>
                </a:solidFill>
                <a:latin typeface="Swis721 Ex BT"/>
              </a:rPr>
              <a:t>2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1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identity relation = {(u,u) | u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X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0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	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= </a:t>
            </a:r>
            <a:r>
              <a:rPr b="1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63640" y="728640"/>
            <a:ext cx="779472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Relation to Hoare Assignmen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s equivalen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}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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}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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63640" y="728640"/>
            <a:ext cx="779472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Relation to Hoare Assignmen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 =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is equivalen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}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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[x/t]}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x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:=</a:t>
            </a:r>
            <a:r>
              <a:rPr b="1" lang="en-US" sz="1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t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40ff40"/>
                </a:solidFill>
                <a:latin typeface="Symbol"/>
                <a:ea typeface="Symbol"/>
              </a:rPr>
              <a:t>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 = 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  </a:t>
            </a:r>
            <a:r>
              <a:rPr b="1" lang="en-US" sz="2000" spc="-1" strike="noStrike">
                <a:solidFill>
                  <a:srgbClr val="6ff1ff"/>
                </a:solidFill>
                <a:latin typeface="Symbol"/>
                <a:ea typeface="Symbol"/>
              </a:rPr>
              <a:t>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  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6ff1ff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ff4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8840" y="3481560"/>
            <a:ext cx="1634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32480" y="3935520"/>
            <a:ext cx="1634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3720" y="5479920"/>
            <a:ext cx="1634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5511960"/>
            <a:ext cx="163440" cy="0"/>
          </a:xfrm>
          <a:prstGeom prst="line">
            <a:avLst/>
          </a:prstGeom>
          <a:ln w="19080">
            <a:solidFill>
              <a:srgbClr val="40f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20600" y="800280"/>
            <a:ext cx="721368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Interpreted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40ff4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ff4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where </a:t>
            </a:r>
            <a:r>
              <a:rPr b="0" lang="en-US" sz="2400" spc="-1" strike="noStrike">
                <a:solidFill>
                  <a:srgbClr val="40ff4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 is any property of the domain of computation, typically an instantiated universal first-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40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3760" y="1371600"/>
            <a:ext cx="77724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cc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Automata and forma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cc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Program logic and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Dynamic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program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protocol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compiler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cc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ff40"/>
                </a:solidFill>
                <a:latin typeface="Swis721 Ex BT"/>
              </a:rPr>
              <a:t>computational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5400" y="1884240"/>
            <a:ext cx="734040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Definition, relation to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Kleene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No purely equational axioma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b"/>
                </a:solidFill>
                <a:latin typeface="Swis721 Ex BT"/>
              </a:rPr>
              <a:t>Redko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xiomatization of equationa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b"/>
                </a:solidFill>
                <a:latin typeface="Swis721 Ex BT"/>
              </a:rPr>
              <a:t>Salomaa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Algebraic theory  </a:t>
            </a:r>
            <a:r>
              <a:rPr b="0" lang="en-US" sz="2400" spc="-1" strike="noStrike">
                <a:solidFill>
                  <a:srgbClr val="ff3300"/>
                </a:solidFill>
                <a:latin typeface="Swis721 Ex BT"/>
              </a:rPr>
              <a:t>Conway 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Equational theory PSPAC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b"/>
                </a:solidFill>
                <a:latin typeface="Swis721 Ex BT"/>
              </a:rPr>
              <a:t>(Stock+1)Meyer 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26080" y="752400"/>
            <a:ext cx="2145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Pre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Axioms of KA </a:t>
            </a:r>
            <a:r>
              <a:rPr b="0" lang="en-US" sz="2800" spc="-1" strike="noStrike">
                <a:solidFill>
                  <a:srgbClr val="ff3300"/>
                </a:solidFill>
                <a:latin typeface="Swis721 Ex BT"/>
              </a:rPr>
              <a:t>[K9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387440"/>
            <a:ext cx="7129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K is an </a:t>
            </a:r>
            <a:r>
              <a:rPr b="0" lang="en-US" sz="2000" spc="-1" strike="noStrike">
                <a:solidFill>
                  <a:srgbClr val="ff3300"/>
                </a:solidFill>
                <a:latin typeface="Swis721 Ex BT"/>
              </a:rPr>
              <a:t>idempotent semiring</a:t>
            </a: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under +, ·,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(p + q) + r = p + (q + r)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(pq)r = p(q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 + q = q + p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1 = 1p =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 + p = p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0 = 0p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 + 0 =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(q + r) = pq + pr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(p + q)r = pr + q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p*q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= leas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such tha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 + px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ff1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f1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p*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= leas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r>
              <a:rPr b="0" lang="en-US" sz="2000" spc="-1" strike="noStrike">
                <a:solidFill>
                  <a:srgbClr val="66ccff"/>
                </a:solidFill>
                <a:latin typeface="Swis721 Ex BT"/>
              </a:rPr>
              <a:t> such that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q + xp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Swis721 Ex B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586680" y="5595840"/>
            <a:ext cx="2378520" cy="585720"/>
            <a:chOff x="3586680" y="5595840"/>
            <a:chExt cx="2378520" cy="585720"/>
          </a:xfrm>
        </p:grpSpPr>
        <p:sp>
          <p:nvSpPr>
            <p:cNvPr id="113" name=""/>
            <p:cNvSpPr/>
            <p:nvPr/>
          </p:nvSpPr>
          <p:spPr>
            <a:xfrm>
              <a:off x="4237560" y="5595840"/>
              <a:ext cx="452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ff40"/>
                  </a:solidFill>
                  <a:latin typeface="Swis721 Ex BT"/>
                </a:rPr>
                <a:t>d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6680" y="5691240"/>
              <a:ext cx="23785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ff40"/>
                  </a:solidFill>
                  <a:latin typeface="Swis721 Ex BT"/>
                </a:rPr>
                <a:t>x </a:t>
              </a:r>
              <a:r>
                <a:rPr b="1" lang="en-US" sz="20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40ff40"/>
                  </a:solidFill>
                  <a:latin typeface="Swis721 Ex BT"/>
                </a:rPr>
                <a:t> </a:t>
              </a:r>
              <a:r>
                <a:rPr b="0" lang="en-US" sz="2000" spc="-1" strike="noStrike">
                  <a:solidFill>
                    <a:srgbClr val="40ff40"/>
                  </a:solidFill>
                  <a:latin typeface="Swis721 Ex BT"/>
                </a:rPr>
                <a:t>y   </a:t>
              </a:r>
              <a:r>
                <a:rPr b="1" lang="en-US" sz="2000" spc="-1" strike="noStrike">
                  <a:solidFill>
                    <a:srgbClr val="40ff40"/>
                  </a:solidFill>
                  <a:latin typeface="Symbol"/>
                  <a:ea typeface="Symbol"/>
                </a:rPr>
                <a:t></a:t>
              </a:r>
              <a:r>
                <a:rPr b="0" lang="en-US" sz="2000" spc="-1" strike="noStrike">
                  <a:solidFill>
                    <a:srgbClr val="40ff40"/>
                  </a:solidFill>
                  <a:latin typeface="Swis721 Ex BT"/>
                </a:rPr>
                <a:t>   x + y =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7240" y="526680"/>
            <a:ext cx="49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wis721 Ex BT"/>
              </a:rPr>
              <a:t>Succinctly stat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4840" y="1760400"/>
            <a:ext cx="65073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A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Kleene algebra</a:t>
            </a:r>
            <a:r>
              <a:rPr b="0" lang="en-US" sz="2400" spc="-1" strike="noStrike">
                <a:solidFill>
                  <a:srgbClr val="66ccff"/>
                </a:solidFill>
                <a:latin typeface="Swis721 Ex BT"/>
              </a:rPr>
              <a:t> is an idempotent semiring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p*q</a:t>
            </a:r>
            <a:r>
              <a:rPr b="0" lang="en-US" sz="2400" spc="-1" strike="noStrike">
                <a:solidFill>
                  <a:srgbClr val="ff6699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is the least fixpoint of</a:t>
            </a:r>
            <a:r>
              <a:rPr b="0" lang="en-US" sz="2400" spc="-1" strike="noStrike">
                <a:solidFill>
                  <a:srgbClr val="ff6699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x.(q + p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qp*</a:t>
            </a:r>
            <a:r>
              <a:rPr b="0" lang="en-US" sz="2400" spc="-1" strike="noStrike">
                <a:solidFill>
                  <a:srgbClr val="ff6699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Swis721 Ex BT"/>
              </a:rPr>
              <a:t>is the least fixpoint of</a:t>
            </a:r>
            <a:r>
              <a:rPr b="0" lang="en-US" sz="2400" spc="-1" strike="noStrike">
                <a:solidFill>
                  <a:srgbClr val="ff6699"/>
                </a:solidFill>
                <a:latin typeface="Swis721 Ex BT"/>
              </a:rPr>
              <a:t> </a:t>
            </a:r>
            <a:r>
              <a:rPr b="0" lang="en-US" sz="2400" spc="-1" strike="noStrike">
                <a:solidFill>
                  <a:srgbClr val="6ff1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ff1ff"/>
                </a:solidFill>
                <a:latin typeface="Swis721 Ex BT"/>
              </a:rPr>
              <a:t>x.(q + x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8:11:01Z</dcterms:created>
  <dc:creator>Dexter Kozen</dc:creator>
  <dc:description/>
  <dc:language>en-US</dc:language>
  <cp:lastModifiedBy> Dexter C Kozen</cp:lastModifiedBy>
  <dcterms:modified xsi:type="dcterms:W3CDTF">2004-01-13T10:09:13Z</dcterms:modified>
  <cp:revision>241</cp:revision>
  <dc:subject/>
  <dc:title>On Hoare Logic and Kleene Algebra with Tests</dc:title>
</cp:coreProperties>
</file>