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5D9-D321-4EA2-9B41-EB50DF46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DFB-F139-4910-AD68-9358ADE2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DB4-B5FD-48E3-AFCC-6010898B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62B-065A-442E-AD8B-FB0FAB2F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96B-D473-416E-B5C1-1351CA5B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877-6BCD-48D3-BEF0-C71E4A8C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ED1-A89C-4DAF-AE27-0048664F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EED-53F9-4976-983B-51FA9CC7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44C-EACD-41B7-8504-444529C0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4BC-B4A0-4353-AD02-15E2C0E0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91B-3561-4F1C-B8A5-164E4F5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0FE-11BC-4FC8-9C93-ED5F174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C8CE-F6DC-4C1E-93E5-48DE97871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tu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utomatic Boolean Algeb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utomatic Linear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utomatic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Automatic Versions of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g’s l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Intrinsic Regularity and Definabil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Decidability Theorem I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Intrinsic Regularity in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, one constructs a tre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leaves is at least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t least n-1 leaves that are infinit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t least one leave that is l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each element is O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the sub-algebra generated by leaves 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o the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 But the length of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n the sub-algebra is O(n). H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elements of the subalgeb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ubset of {0,1}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, we  have a contradic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m is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utomatic Linear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led small ordi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rational number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and products of automatic linear or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(n)), where f(n)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n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f(n) is a polynomial with positive coeffici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Linear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(L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linear order. Elements a,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finitely many el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ze (L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.r.t the equival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, and get the linear order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the process to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get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Linear O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on. The first point (ordinal) at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equals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antor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ndixson rank of the linear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.  The CB rank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if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hen either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ingleton or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isomorphic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Linear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orem [Ranks of Automatic Linear Orders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houssainov, Nies, Rubin, Stephan.  20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L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n automatic linear order then 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tor-Bendixson rank is fin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. We provide our proof when the lin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is an ordinal. This is due to Gorank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homme and Knapik (2000). Ordina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rank are small ordinals. All 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Linear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rdinal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utomatic and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. So it suffices to prove tha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utomat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tur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utomati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Linear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 be an automaton recognizing the 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Let D be an automat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ing the domain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rs (u,v) and (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with |u|=|v| and |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=|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equival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v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accepted by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 does not distinguish u and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 does not distinguish (u,v) and (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Linear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aim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equivalence classes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|D| |M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aim 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,v) and (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re equivalent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w | uw is in D &amp; u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}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somorphic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|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is in D &amp;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Linear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.. such 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x |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s isomorphic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ach 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sociate the s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ing of all (Du, M(u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, where |u|=|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 sequ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,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 3.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 ( i &lt; j   &amp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olean Algebra is (B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∩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, 0,1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erations ∩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/  satisfy the usu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the set-theoretic operations, 0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al element and 1 is the maxim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) is an example of a Boolean Algeb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Linear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union of sets of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w | uw is in D &amp; u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|u|=|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}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 4:   One of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somorphic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exactly the same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Linear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laims 2 and 3 there exist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dic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theorem  is pr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rolla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k of automatic linear order can be comp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ecidable if automatic lo is well-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somorphism problem for automatic ordinals is deci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utomatic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T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n automatic &amp; infinite tr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finitely bran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sub-tree consisting of all x in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there is a split above x and the spl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on two inf paths. Consider the sequen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, d(T), d(d(T)),…, d(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),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fini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firs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which d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= d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or-Bendixson ran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mma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countably many infi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and is finitely branching t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. For each u in T consider S(u) the se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mmediate success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u. Order S(u) v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Now we can define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leene-Brow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if x is above y or y is “right of” 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we have the linear order  (T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automat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(T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 is scatt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oes not exce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+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ds the proof of the lem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orem I [Ranks of automatic trees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houssainov, Rubin, Stephan, 20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utomatic finitely branching tree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fin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. For each x in T consider the tre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x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at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countably m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s. The lemma above implies that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ounded by a fixed n. This imp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be at most n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orem II [ranks of automatic trees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oussainov, Rubin, Stephan, 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utomatic tree t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of is based on constructing a finite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ing automatic tr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se ran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s the rank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onig’s Lemma (automatic ver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Given an automatic tree it is decid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has an infinite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proved by constructing the Kleen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e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n infinite path and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ly bran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ig’s Lemma (Automatic ver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FO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an infi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.    Good(x) if any y below or equal to x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&lt;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first immediate successor of its pa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there are infinitely many z above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{x | x is on an infinite path}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then we can remove the assump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finitely bran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ig’s Lemma (automatic ver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uning Lemma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any automatic tre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set {x | x is on infinite path}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orem 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oussainov, Rubin, Stephan,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automatic infinite tree with an infi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has a regular infinite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L be a linear order. 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,b)={x | 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&lt;b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set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ing of all fi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 of all interv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 1: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Boolean alge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 2: Any Boolean algebra is isomorph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me linear order 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ig’s Lemma (Automatic ver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orem I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oussainov, Rubin, Stephan,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 automatic  tree with  countably m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paths. Th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ch 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gu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. Use the fact that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finit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unning Lem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n automatic structure. Let R b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finition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rinsically regul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R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in all automatic presentations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1.  All relation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fin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FO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 are intrinsically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eno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 relation R in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+)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cally regular iff R is defi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0,1}*; L, R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re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EqL)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cally regular iff it is defi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A unary relation in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is definable iff it is finite or co-fin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ositio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t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x| x is at odd position}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cally 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. We need to extract an automat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ing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ny given automa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of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So, fix a 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idability 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oussainov, Rubin, Step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ll relations definable in FO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n,m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cally regul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FO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n,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y of any automa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is decid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). A unary relation in t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is definable iff it is 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oussainov, Rubin Steph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trinsically regular in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. We need to build an automatic cop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) in whic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regul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11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n+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n-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hus have the following automa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. The  domain is 0*1*, and S(x)=y if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. This is isomorphic to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). Clear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 But, this is not a regular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oussainov, Rubin Steph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x| x is at odd position} i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cally regular in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(sketch and idea). We need to build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py of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) in which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. The alphabet is {0,1}. For each st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over this alphabet defin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for x=0101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=0011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=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tring x, set  n=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| and m=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+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x as the pair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being a param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start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y x of the type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mid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y x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we have x of length n+m. Assume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is a start point. Set b=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+1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now how  we define the success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b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b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addition by b is performed mo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Boolean algeb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ma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Boolean algebr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ma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Boolean algebr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 automatic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.  Assu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utomati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the successor at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as follows.  If op(x)+1 is no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p(x)+1).  Otherw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+m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on behind the definition of the success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follow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, (b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,…..,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,       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    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d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b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,…,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)                      [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“normal” sequence in which odd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evenness of positions is a regular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 Re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ccessor disrupts this regularity by putt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 point at the end of the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), (b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),…..,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),             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b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)        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d 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b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),…,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) ,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),   [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in order to know if (v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) is in odd or ev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 one needs to know (v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) is on L-side or 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of the sequence. This is not a regular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binary string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ruct an el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foll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been constructed. Fi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-lexicographicall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such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≠0 and 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x) ≠0 . Se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aim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is a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im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b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=n}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for all x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have |x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im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for 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from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have |y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the set of all elements of the Boole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 generated b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ubse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0,1}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owever, the number of el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lean  algebra generated b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2 to the power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Contradi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the atomless Boolean algebra doe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 automatic c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chnique can now be used to prov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orem 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aracterization of Automatic B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oussainov, Nies, Rubin, Stephan.  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Boolean algebra has an automatic copy i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only if it is isomorphic to 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some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. One direction is d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Boolean Alg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 is automatic but not of the desi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. An element b in B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finit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ly many atoms below it. An element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s image in the factor algebra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nitary  ideal is not a union of finite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ssumption, the element 1 is l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mk</cp:lastModifiedBy>
  <dcterms:modified xsi:type="dcterms:W3CDTF">2004-01-15T19:56:41Z</dcterms:modified>
  <cp:revision>84</cp:revision>
  <dc:subject/>
  <dc:title>PowerPoint Presentation</dc:title>
</cp:coreProperties>
</file>