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1D9-4DAB-4950-B65C-B6B050FA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051-8FA5-4A14-A4DF-64D00ED8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D1B-23BA-40E8-8C1D-0BFDE900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B7E-6C26-47E2-813E-190079A1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E7D-B784-4673-8F40-DEC74DCE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012-56D4-42D5-9819-D7D11826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05E-5D3B-4167-824D-53516DE5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476-3AB1-4F88-9EB1-07154739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201-6C19-4EFB-BBA3-B6C48ECA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7DA-FB37-43C9-A2C3-8300037C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EF1-40FC-4BC6-BFD2-4170A2F9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978-425C-4848-81AD-FA83E23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9D31-FF51-4A16-96CE-1F51453FF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utomatic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khadyr Khoussai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University of Auck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u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on Op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n alphabet. Let L b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ve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)={w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 ((w,u) belongs to L)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 is regular then so is 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binary relation R on the set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 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e want to define w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that R is FA recogniz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ways to define 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able relations. There are 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that study  questions of this typ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ollow Buchi’s original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in196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1536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fine the convolution of R. Take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and v;  Say, u=11001,v=10101001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m one below the 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01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10100110       and form the word c(u,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523880" y="4495680"/>
            <a:ext cx="457200" cy="871200"/>
            <a:chOff x="1523880" y="4495680"/>
            <a:chExt cx="457200" cy="871200"/>
          </a:xfrm>
        </p:grpSpPr>
        <p:sp>
          <p:nvSpPr>
            <p:cNvPr id="66" name=""/>
            <p:cNvSpPr/>
            <p:nvPr/>
          </p:nvSpPr>
          <p:spPr>
            <a:xfrm>
              <a:off x="1523880" y="4495680"/>
              <a:ext cx="152280" cy="871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0200" y="4574880"/>
              <a:ext cx="38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828080" y="4495680"/>
              <a:ext cx="152280" cy="8712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057400" y="4495680"/>
            <a:ext cx="457200" cy="871200"/>
            <a:chOff x="2057400" y="4495680"/>
            <a:chExt cx="457200" cy="871200"/>
          </a:xfrm>
        </p:grpSpPr>
        <p:sp>
          <p:nvSpPr>
            <p:cNvPr id="70" name=""/>
            <p:cNvSpPr/>
            <p:nvPr/>
          </p:nvSpPr>
          <p:spPr>
            <a:xfrm>
              <a:off x="2057400" y="4495680"/>
              <a:ext cx="152280" cy="871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4574880"/>
              <a:ext cx="38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361600" y="4495680"/>
              <a:ext cx="152280" cy="8712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590920" y="4495680"/>
            <a:ext cx="457200" cy="871200"/>
            <a:chOff x="2590920" y="4495680"/>
            <a:chExt cx="457200" cy="871200"/>
          </a:xfrm>
        </p:grpSpPr>
        <p:sp>
          <p:nvSpPr>
            <p:cNvPr id="74" name=""/>
            <p:cNvSpPr/>
            <p:nvPr/>
          </p:nvSpPr>
          <p:spPr>
            <a:xfrm>
              <a:off x="2590920" y="4495680"/>
              <a:ext cx="152280" cy="871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67240" y="4574880"/>
              <a:ext cx="38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895120" y="4495680"/>
              <a:ext cx="152280" cy="8712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124080" y="4495680"/>
            <a:ext cx="457200" cy="871200"/>
            <a:chOff x="3124080" y="4495680"/>
            <a:chExt cx="457200" cy="871200"/>
          </a:xfrm>
        </p:grpSpPr>
        <p:sp>
          <p:nvSpPr>
            <p:cNvPr id="78" name=""/>
            <p:cNvSpPr/>
            <p:nvPr/>
          </p:nvSpPr>
          <p:spPr>
            <a:xfrm>
              <a:off x="3124080" y="4495680"/>
              <a:ext cx="152280" cy="871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00400" y="4574880"/>
              <a:ext cx="38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428280" y="4495680"/>
              <a:ext cx="152280" cy="8712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657600" y="4495680"/>
            <a:ext cx="457200" cy="871200"/>
            <a:chOff x="3657600" y="4495680"/>
            <a:chExt cx="457200" cy="871200"/>
          </a:xfrm>
        </p:grpSpPr>
        <p:sp>
          <p:nvSpPr>
            <p:cNvPr id="82" name=""/>
            <p:cNvSpPr/>
            <p:nvPr/>
          </p:nvSpPr>
          <p:spPr>
            <a:xfrm>
              <a:off x="3657600" y="4495680"/>
              <a:ext cx="152280" cy="871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4574880"/>
              <a:ext cx="38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961800" y="4495680"/>
              <a:ext cx="152280" cy="8712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191120" y="4495680"/>
            <a:ext cx="457200" cy="871200"/>
            <a:chOff x="4191120" y="4495680"/>
            <a:chExt cx="457200" cy="871200"/>
          </a:xfrm>
        </p:grpSpPr>
        <p:sp>
          <p:nvSpPr>
            <p:cNvPr id="86" name=""/>
            <p:cNvSpPr/>
            <p:nvPr/>
          </p:nvSpPr>
          <p:spPr>
            <a:xfrm>
              <a:off x="4191120" y="4495680"/>
              <a:ext cx="152280" cy="871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7440" y="4574880"/>
              <a:ext cx="38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495320" y="4495680"/>
              <a:ext cx="152280" cy="8712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724280" y="4495680"/>
            <a:ext cx="457200" cy="871200"/>
            <a:chOff x="4724280" y="4495680"/>
            <a:chExt cx="457200" cy="871200"/>
          </a:xfrm>
        </p:grpSpPr>
        <p:sp>
          <p:nvSpPr>
            <p:cNvPr id="90" name=""/>
            <p:cNvSpPr/>
            <p:nvPr/>
          </p:nvSpPr>
          <p:spPr>
            <a:xfrm>
              <a:off x="4724280" y="4495680"/>
              <a:ext cx="152280" cy="871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00600" y="4574880"/>
              <a:ext cx="38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028480" y="4495680"/>
              <a:ext cx="152280" cy="8712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57800" y="4495680"/>
            <a:ext cx="457200" cy="871200"/>
            <a:chOff x="5257800" y="4495680"/>
            <a:chExt cx="457200" cy="871200"/>
          </a:xfrm>
        </p:grpSpPr>
        <p:sp>
          <p:nvSpPr>
            <p:cNvPr id="94" name=""/>
            <p:cNvSpPr/>
            <p:nvPr/>
          </p:nvSpPr>
          <p:spPr>
            <a:xfrm>
              <a:off x="5257800" y="4495680"/>
              <a:ext cx="152280" cy="871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4120" y="4574880"/>
              <a:ext cx="38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562000" y="4495680"/>
              <a:ext cx="152280" cy="8712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791320" y="4495680"/>
            <a:ext cx="457200" cy="871200"/>
            <a:chOff x="5791320" y="4495680"/>
            <a:chExt cx="457200" cy="871200"/>
          </a:xfrm>
        </p:grpSpPr>
        <p:sp>
          <p:nvSpPr>
            <p:cNvPr id="98" name=""/>
            <p:cNvSpPr/>
            <p:nvPr/>
          </p:nvSpPr>
          <p:spPr>
            <a:xfrm>
              <a:off x="5791320" y="4495680"/>
              <a:ext cx="152280" cy="871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640" y="4574880"/>
              <a:ext cx="38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095520" y="4495680"/>
              <a:ext cx="152280" cy="8712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24480" y="4495680"/>
            <a:ext cx="457200" cy="871200"/>
            <a:chOff x="6324480" y="4495680"/>
            <a:chExt cx="457200" cy="871200"/>
          </a:xfrm>
        </p:grpSpPr>
        <p:sp>
          <p:nvSpPr>
            <p:cNvPr id="102" name=""/>
            <p:cNvSpPr/>
            <p:nvPr/>
          </p:nvSpPr>
          <p:spPr>
            <a:xfrm>
              <a:off x="6324480" y="4495680"/>
              <a:ext cx="152280" cy="871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574880"/>
              <a:ext cx="38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628680" y="4495680"/>
              <a:ext cx="152280" cy="8712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6000 h 871200"/>
                <a:gd name="textAreaBottom" fmla="*/ 83520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u,v) is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con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(u,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c(R)={c(u,v) | (u,v) belongs to R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, c(R) is a language over new fin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b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chi and Elgot, 1960,196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on R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 recogniz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quivalently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 its convolution c(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A recogniz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u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;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,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 is a predicate symbol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 is a functional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:  a) A is a countable s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Consider relational structures in which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F is replaced by its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Graphs (V;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Partial orders (P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inear orders (L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Trees (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Groups (G; +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 Boolean algebras (B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∩, /, 0,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Rings (R; +, x, 0,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Automatic Structure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dgson 1976, Khoussainov and Nerode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A,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main A is a FA recognizable language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edicate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A recognizable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Automatic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scribe an automatic structure 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explicitly speci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lphab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nite automaton that recognizes the domain of the struc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automata recognizing all the predicates of the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ccessor structure ({1}*; S), where S(w)=w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 successors structure ({0,1}*; L, R), where L(w)=w0  and R(w)=w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ar order ({1}*; &lt;), where w&lt;u iff the length of w is less than that of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nary tree ({0,1}*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iff x is a prefix of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 word 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{0,1}*; L, R,  &lt;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EqL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EqL(x,y) iff |x|=|y|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The structure (N; +), where number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as binary words with l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digits written from left to righ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most digit not being 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ctur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oti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inite Automata.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uilding Autom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utomatic Structures.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Decidability Theorems I and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Definability Theor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The Presburger arithmetic (N; S, +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where  numbers are represented in bin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Arithmetic with weak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; S, +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x 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iff x is a power of two and y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Let T be a Turing machine. Consider the graph (Conf(T), E), where Conf(T) is the space of all configurations of T, and E(x,y) if there is a one-step transition from configuration x into y via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The 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{0,1}*1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e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dense linearly ordered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idability Theorem I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odgson 1976, Khoussainov and Nerode,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an automatic structure.  There ex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algorithm that, given a FO formula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, builds an automaton that recognizes th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{(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…,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 |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tisfies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…,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of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By induction on the length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disjunction corresponds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, negation to the complementation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jection 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order theory, that is, the se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irst order sentences true in any 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structure is deci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first order theory of Presbur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(N; S, 0, &lt;, +) is deci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idability Theorem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radel and Blumensath, in LICS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07732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n automatic structure.  T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an  algorithm that, given a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 FO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l-GR" sz="2800" spc="-1" strike="noStrike" baseline="30000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builds an automa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|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ie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. Exte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&lt;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 Now, any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l-GR" sz="2800" spc="-1" strike="noStrike" baseline="30000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z) is equivalent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(y&lt;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&amp;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z)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lla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077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et (T; &lt;) be an automatic finit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ching infinite tree. Then it has a reg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. Consider (T;&lt;, &lt;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Here is a FO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l-GR" sz="2800" spc="-1" strike="noStrike" baseline="30000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n infinite path.    Good(x) if 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below or equal to x is the &lt;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successor of its parent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infinitely many z above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)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)=the tower of 2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t to the power of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ntifier brings non-determi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gation which follow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blow up in the number of st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t blocks of the negation symb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formula yields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on with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) number of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utomatic then the time complexity of the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ing  the theory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n-e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lumensath, Gradel, LICS 200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 complexity of the first order theor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; S, +, &lt;, 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non-e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Lohrey (2003): The theory of any automatic finit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graph is double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Fleadtke (2003): The known lower boun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burger arithmetic is matched via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finition: Automatic Presen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houssainov and Nerode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struc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 automatic presentation of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equivalently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utomatic copy of 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automatic structure isomorphic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n automatic presentation the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 presen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a Presentable Structures: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group (Z; +). More generally, finit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d Abelian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oolean Algebras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inear Orders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Equivalence Struc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ctur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utomatic Boolean Alge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utomatic Linear Orders and R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utomatic Trees and R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utomatic Versions of Konig’s  Le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Definability and Intrinsic Regular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Decidability Theorem I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Example: Intrinsic Regularity in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finability Theorem I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chi 1960, Elgot 1961, Eilenberg, Elgot and Sheperdson 1969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ere et al. 1994, Blumensath and Gradel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structure A  has an automatic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ff A is isomorphic to a structure definabl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{0,1}*; L, R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q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. One direction is cl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direction:   Let A be an automa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We can assume that the alphabet is {0,1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848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ability Theorem I (Proo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uffices to show that any regular relation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 {0,1} is definable. Say, for simplicity, 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nary. Assume M accepts  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{1,….,m} are the states of M; 1 is the initi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ransition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 is the set of all accepting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ability Theorem I (Pro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buil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such that for all w in {0,1}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w is in R iff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)  is true.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needs to say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exist words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.,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the word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ulates state 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binary sequence such that the 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nent is 1 iff the 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nent of the run on x is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n should be accep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ability Theorem I (Proo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ormally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says: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first digit o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or any position p only one of words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f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git o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 and the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git of x i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n (p+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git o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,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=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f the (|x|+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git o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 then k is in 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se can be expressed in the FO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finability Theorem I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l &amp; Blumeansath, 2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re equival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   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utomatic over binary alphab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   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efinabl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{0,1}*; L, R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q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   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efinable in (N; S, +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inability Theorem III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bebin 1976, Blumensath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uctu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n automatic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a unary alphabet if and only if 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morphic to a structure definabl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od(2), mod(3), mod(4)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ctur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raisse Limits and Their Automatic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Random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Universal Partial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Isomorphism Problem for Automa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i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onclusion:  What is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of the theory of computabl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 of feasible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 of the theory of finit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tural generalization of automata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stat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go back to the late 50s and the 60s to ear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s of automata theory by Buchi, Elgo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lenberg, Kleene, Rabin, Sheperd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an alphabet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utoma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nite set S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bset I of S. States in I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itial 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ition dia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→ P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bset F of S. States in F are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al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a can be represented as dire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ed 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w =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.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word. The word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ed by the automaton if there exist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cepting  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f the automaton o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(A)={w | w is accepted by 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L is FA recognizable if L=L(A)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utomaton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nd Som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w1 | w is a word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u101v | u,v are words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u0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each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0 or 1, u is a word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w101 | w does not contain 10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w | the length of w is a multiple of 3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ne’s theo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 height hierarc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A and DFA are equivalent (a few wor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u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A recognizable. The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languages are FA recogniz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on of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section of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lement of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09:16:39Z</dcterms:created>
  <dc:creator>bmk</dc:creator>
  <dc:description/>
  <dc:language>en-US</dc:language>
  <cp:lastModifiedBy>bmk</cp:lastModifiedBy>
  <dcterms:modified xsi:type="dcterms:W3CDTF">2004-01-12T08:30:35Z</dcterms:modified>
  <cp:revision>107</cp:revision>
  <dc:subject/>
  <dc:title>Automatic Structures</dc:title>
</cp:coreProperties>
</file>